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239-15F0-4519-9E9A-8AEF9F63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298A-1EBD-40AF-ABD9-F7FA789A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A03-B230-4189-87FC-CF840884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2E1-6D35-40EE-88D6-7F3A8CAD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7FA-73FD-4AED-8E5E-4E15FEBA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151B-1BBE-4BFC-A59A-55C1C398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B91-2368-4971-AD9E-91356E9A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3C0-4FD4-4D5D-AD6C-34570E75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77F-EDF5-4A9F-B2EB-C7496E67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61A-86AC-45DE-8044-46C271F4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B58-F0BE-42ED-BAB7-DB8BBE32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1668-F698-4A48-BFA7-4542AD4F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B7DF-059E-4ABE-8DC0-BFA11E8B5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18200" y="201600"/>
            <a:ext cx="88272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HILDREN’S CRECH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GROWTH, EFFIC, MORA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5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Ethical Calculus(E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Base receives +2 growth &amp; +2 efficiency bonus; all negative morale effects are cancelled for units in base square (these units receive +1 morale); reduces base’s vulnerability to mind control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Protests/Pop. Surg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76480" y="1400040"/>
            <a:ext cx="703080" cy="76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ENERGY BAN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N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Economics(B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economy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Power Sur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1200" y="1400040"/>
            <a:ext cx="93204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AB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Automation(B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Lets base population increase beyond 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92800" y="1400040"/>
            <a:ext cx="8701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ABITATION DOM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6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uper tensile Aolids(B10), Hab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Lets base population increase beyond size 1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34280" y="1400040"/>
            <a:ext cx="838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EADQUARTER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NERGY, EFFIC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5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No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1 energy; no inefficiency; base becomes immune to enemy probe team and mind contr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80" y="2344680"/>
            <a:ext cx="927360" cy="8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OLOGRAM THEAT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The secret project the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Virtual World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causes each network node to also count as a hologram theater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6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lanetary Networks(D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-2 drones at base; +50 percent psych output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46360" y="201600"/>
            <a:ext cx="86688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IOENHANCEMENT CE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ORALE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SP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yborg Factory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counts as a bioenhancement center at every base.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Neural Grafting(C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All military units built here receive +2 morale bonus; any alien lifeforms you breed at this base gain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280" y="201600"/>
            <a:ext cx="1368720" cy="76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AEROSPACE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ORALE, REPAI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SP Cloudbase Academy counts as aerospace complex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Air Power(E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Repairs air units quickly; air units built at complex get +2 morale bonus; allows space-based improvements; Air defense +100%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51760" y="201600"/>
            <a:ext cx="10209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MMAND CE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ORALE, REPAI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SP Command Nexus counts as a command center for every base.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40,Va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Mobility(E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Repairs damaged ground units quickly; ground units built here get +2 morale upgrad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1880" y="2344680"/>
            <a:ext cx="970200" cy="94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AVAL Y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ORALE, REPAI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SP Maritime Control Center counts as a naval yard in each bas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initiative(E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 morale bonus to naval units built here; repairs damaged naval units quickly;Naval defense +100%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21440" y="2344680"/>
            <a:ext cx="969840" cy="8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SSUS MINING STATIO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lf-Aware Machines(D11), Aerospace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1 mineral/station output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gative Effects: Mineral bonus is halved for any base without an aerospace complex;benefit can not exceed base siz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72440" y="2344680"/>
            <a:ext cx="17002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TWORK N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he secret project the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Virtual World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causes each network node to also count as a hologram theatre.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he secret project the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Universal Translator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allows the study of multiple alien artifacts at the same base.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f your colony contains several network nodes, consider researching the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twork Backbone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secret project, which provides +1 research for every network node in the gam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formation Networks(D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Base can study an alien artifact; +50 percent labs at bas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Network Overload/Free Tech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280" y="3817800"/>
            <a:ext cx="911520" cy="8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ORBITAL DEFENSE PO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SAT ATTACK, PLANET BUSTER DEF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lf-Aware Machines(D1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50 percent chance of destroying enemy satellite; defense against planet busters;defense pods can only be deployed once per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24000" y="3817800"/>
            <a:ext cx="11239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ORBITAL POWER TRANSMI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NER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dvanced Spaceflight(D8), Aerospace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1 energy/transmitter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gative Effects: Energy bonus is halved for bases without an aerospace complex;benefit can not exceed base siz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09280" y="3817800"/>
            <a:ext cx="117864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ARADISE GARDE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ALENT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ntient Econometrics(E1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 talents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56400" y="3817800"/>
            <a:ext cx="8859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SI GAT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Matter Transmission(B1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Units can teleport between bases that contain psi gat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85000" y="3817800"/>
            <a:ext cx="128772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UNISHMENT SPHE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dvanced Military Algorithms(C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Eliminates drones at base; decreases vulnerability to enemy mind control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gative Effects: Eliminates talents at base; -50 percent labs output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49640" y="1400040"/>
            <a:ext cx="718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FUSION LAB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N, 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Fusion Power(D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economy at base; +50 percent labs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57360" y="4892760"/>
            <a:ext cx="9255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QUANTUM LAB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N, 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4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Quantum Power(D1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economy at base; +50 percent labs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78040" y="4892760"/>
            <a:ext cx="89712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ECREATION COMMON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4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ocial Psych(B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-2 drones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00640" y="3817800"/>
            <a:ext cx="111276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SSURE DOM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NUTR, ENERGY, 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Flexibility(E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Lets the base survive underwater; gives base recycling tan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70280" y="4892760"/>
            <a:ext cx="13352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ECYCLING TAN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NUTR, ENERGY, 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4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Biogenetics(D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Increases nutrient, energy, and minerals output of base squ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8440" y="2344680"/>
            <a:ext cx="9590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ANOHOSPITA 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4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Homo Superior(E8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5 percent psych at base; +50 percent labs at base;  -1 drone at base; reduces population loss caused by genetic warfare or disease outbrea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Prometheus Vir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00640" y="4892760"/>
            <a:ext cx="104940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ESEARCH HOSPITA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Gene Splicing(B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5 percent psych at base; +50 percent labs at base; -1 drone at base; reduces population loss caused by genetic warfare or disease outbrea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Prometheus Vir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1400040"/>
            <a:ext cx="7984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GENEJACK FACTOR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Retroviral Engineering(C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minerals outpu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gative Effect: +1 drones at base; increases vulnerability to enemy mind contr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6840" y="2344680"/>
            <a:ext cx="9842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ANOREPLIC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320,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Matter Editation(B1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mineral output at base; reduces effects of minerals on Planet’s ecolog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280" y="4892760"/>
            <a:ext cx="129240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QUANTUM CONVER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The secret project the Singularity Inductor acts as a quantum converter for every bas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00,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Quantum Machinery(B1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mineral output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45160" y="4892760"/>
            <a:ext cx="111132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OBOTIC ASSEMBLY PLAN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0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Nanorobotics(B9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minerals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50160" y="4892760"/>
            <a:ext cx="12225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SKUNKWOR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ROTO COS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6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dvanced Subatomic Theory(D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Eliminates new unit prototype costs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280" y="5854680"/>
            <a:ext cx="120348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SKY HYDROPONICS LAB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NUT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Orbital Spaceflight(D6), Aerospace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1 nutrient/lab at every base; nutrient bonus is halved for any base without an aerospace complex;benefit can not exceed base siz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46040" y="5854680"/>
            <a:ext cx="9446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STOCKPILE ENERG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NER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No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All minerals produced at this base are immediately converted to energy reserves (2 minerals/ener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51440" y="3817800"/>
            <a:ext cx="1004760" cy="76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ERIMETER DEFEN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DEFENS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SP Citizens’ Defense Forc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unts as a perimeter defense for each bas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5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Loyalty(C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doubles initial base defense strength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43480" y="5854680"/>
            <a:ext cx="9745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ACHYON FIEL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DEFENS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robability Mechanics(B7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triples initial base defense strength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99040" y="201600"/>
            <a:ext cx="870120" cy="76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ENTAURI PRESER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L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Meditation(E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Reduces effect of industry on Planet’s ecosystem; any lifeform bred here gains a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91080" y="5854680"/>
            <a:ext cx="172080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EMPLE OF PLANE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L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0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crets of Alpha Centauri(D1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Reduces industry’s effect on Planet’s ecology; any lifeform bred here receives a +1 lifecycle bonus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78000" y="2344680"/>
            <a:ext cx="80964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YBRID FORES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ECON, NUTR, ENERGY, ECOL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4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lanetary Economics(B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psych at base; +50 percent economy at base; increases nutrient and energy output of forest squares; combined with a tree farm, it eliminates ecological damage caused by terraformin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113680" y="5854680"/>
            <a:ext cx="959040" cy="8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REE FAR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ECON, NUTR, ECOL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Environmental Economics(B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psych at base; +50 percent economy atbase; increases nutrient output in forest squares; eliminates at least half the ecological damage caused by terraformin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62280" y="201600"/>
            <a:ext cx="88272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IOLOGY LAB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LABS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6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Empathy(E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 Labs bonus per turn; any alien lifeforms bred here gain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lanet Blight/Beneficial Bacteri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28360" y="64198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003640" y="1400040"/>
            <a:ext cx="916920" cy="641520"/>
            <a:chOff x="5003640" y="1400040"/>
            <a:chExt cx="916920" cy="641520"/>
          </a:xfrm>
        </p:grpSpPr>
        <p:sp>
          <p:nvSpPr>
            <p:cNvPr id="81" name=""/>
            <p:cNvSpPr/>
            <p:nvPr/>
          </p:nvSpPr>
          <p:spPr>
            <a:xfrm>
              <a:off x="5003640" y="1400040"/>
              <a:ext cx="91116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GEOSYNCHRONOUS SURVEY POD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DEFENS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160,4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N-Space Compression (C8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ensor at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3 square sighting radiu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5598000" y="1542960"/>
              <a:ext cx="322560" cy="215640"/>
              <a:chOff x="5598000" y="1542960"/>
              <a:chExt cx="322560" cy="215640"/>
            </a:xfrm>
          </p:grpSpPr>
          <p:sp>
            <p:nvSpPr>
              <p:cNvPr id="83" name=""/>
              <p:cNvSpPr/>
              <p:nvPr/>
            </p:nvSpPr>
            <p:spPr>
              <a:xfrm>
                <a:off x="5650200" y="1549440"/>
                <a:ext cx="20700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598000" y="15429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2049480" y="1400040"/>
            <a:ext cx="931320" cy="641520"/>
            <a:chOff x="2049480" y="1400040"/>
            <a:chExt cx="931320" cy="641520"/>
          </a:xfrm>
        </p:grpSpPr>
        <p:sp>
          <p:nvSpPr>
            <p:cNvPr id="86" name=""/>
            <p:cNvSpPr/>
            <p:nvPr/>
          </p:nvSpPr>
          <p:spPr>
            <a:xfrm>
              <a:off x="2049480" y="1400040"/>
              <a:ext cx="91080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FLECHETTE DEFENSE SYSTE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MISSILE DEFENS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120,2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N-Space Compression (C8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100% missile defen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50% chance ICBM defen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2658240" y="1531800"/>
              <a:ext cx="322560" cy="215640"/>
              <a:chOff x="2658240" y="1531800"/>
              <a:chExt cx="322560" cy="215640"/>
            </a:xfrm>
          </p:grpSpPr>
          <p:sp>
            <p:nvSpPr>
              <p:cNvPr id="88" name=""/>
              <p:cNvSpPr/>
              <p:nvPr/>
            </p:nvSpPr>
            <p:spPr>
              <a:xfrm>
                <a:off x="2710440" y="153828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658240" y="153180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2363760" y="5854680"/>
            <a:ext cx="969840" cy="519840"/>
            <a:chOff x="2363760" y="5854680"/>
            <a:chExt cx="969840" cy="519840"/>
          </a:xfrm>
        </p:grpSpPr>
        <p:sp>
          <p:nvSpPr>
            <p:cNvPr id="91" name=""/>
            <p:cNvSpPr/>
            <p:nvPr/>
          </p:nvSpPr>
          <p:spPr>
            <a:xfrm>
              <a:off x="2363760" y="5854680"/>
              <a:ext cx="969840" cy="51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UBSEA TRUNKLIN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MINERAL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120,4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Planetary Economics (B6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1 mineral/mining platfor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982600" y="5927760"/>
              <a:ext cx="322560" cy="215640"/>
              <a:chOff x="2982600" y="5927760"/>
              <a:chExt cx="322560" cy="215640"/>
            </a:xfrm>
          </p:grpSpPr>
          <p:sp>
            <p:nvSpPr>
              <p:cNvPr id="93" name=""/>
              <p:cNvSpPr/>
              <p:nvPr/>
            </p:nvSpPr>
            <p:spPr>
              <a:xfrm>
                <a:off x="3034800" y="593424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82600" y="59277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7283520" y="5854680"/>
            <a:ext cx="754200" cy="702360"/>
            <a:chOff x="7283520" y="5854680"/>
            <a:chExt cx="754200" cy="702360"/>
          </a:xfrm>
        </p:grpSpPr>
        <p:sp>
          <p:nvSpPr>
            <p:cNvPr id="96" name=""/>
            <p:cNvSpPr/>
            <p:nvPr/>
          </p:nvSpPr>
          <p:spPr>
            <a:xfrm>
              <a:off x="7283520" y="5854680"/>
              <a:ext cx="717480" cy="70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HERMOCLINE TRANSDUCE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ENERGY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80,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Adaptive Economics (B3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1 energy/tidal harnes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7715160" y="5899320"/>
              <a:ext cx="322560" cy="215640"/>
              <a:chOff x="7715160" y="5899320"/>
              <a:chExt cx="322560" cy="215640"/>
            </a:xfrm>
          </p:grpSpPr>
          <p:sp>
            <p:nvSpPr>
              <p:cNvPr id="98" name=""/>
              <p:cNvSpPr/>
              <p:nvPr/>
            </p:nvSpPr>
            <p:spPr>
              <a:xfrm>
                <a:off x="7767360" y="590580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715160" y="58993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71280" y="1400040"/>
            <a:ext cx="935280" cy="580680"/>
            <a:chOff x="71280" y="1400040"/>
            <a:chExt cx="935280" cy="580680"/>
          </a:xfrm>
        </p:grpSpPr>
        <p:sp>
          <p:nvSpPr>
            <p:cNvPr id="101" name=""/>
            <p:cNvSpPr/>
            <p:nvPr/>
          </p:nvSpPr>
          <p:spPr>
            <a:xfrm>
              <a:off x="71280" y="1400040"/>
              <a:ext cx="92232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VERT OPS CENTE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PROB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100,2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Pre-Sentient Algorithms (D5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obes +2 Mo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ase +2 probe rating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684000" y="1469880"/>
              <a:ext cx="322560" cy="215640"/>
              <a:chOff x="684000" y="1469880"/>
              <a:chExt cx="322560" cy="215640"/>
            </a:xfrm>
          </p:grpSpPr>
          <p:sp>
            <p:nvSpPr>
              <p:cNvPr id="103" name=""/>
              <p:cNvSpPr/>
              <p:nvPr/>
            </p:nvSpPr>
            <p:spPr>
              <a:xfrm>
                <a:off x="736200" y="147636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4000" y="146988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405240" y="5854680"/>
            <a:ext cx="963720" cy="459000"/>
            <a:chOff x="3405240" y="5854680"/>
            <a:chExt cx="963720" cy="459000"/>
          </a:xfrm>
        </p:grpSpPr>
        <p:sp>
          <p:nvSpPr>
            <p:cNvPr id="106" name=""/>
            <p:cNvSpPr/>
            <p:nvPr/>
          </p:nvSpPr>
          <p:spPr>
            <a:xfrm>
              <a:off x="3405240" y="5854680"/>
              <a:ext cx="92232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UBSPACE GENERATO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600,5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Singularity Mechanic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ogenitor victory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046400" y="5924520"/>
              <a:ext cx="322560" cy="215640"/>
              <a:chOff x="4046400" y="5924520"/>
              <a:chExt cx="322560" cy="215640"/>
            </a:xfrm>
          </p:grpSpPr>
          <p:sp>
            <p:nvSpPr>
              <p:cNvPr id="108" name=""/>
              <p:cNvSpPr/>
              <p:nvPr/>
            </p:nvSpPr>
            <p:spPr>
              <a:xfrm>
                <a:off x="4098600" y="593100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46400" y="59245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1589040" y="201600"/>
            <a:ext cx="907920" cy="519840"/>
            <a:chOff x="1589040" y="201600"/>
            <a:chExt cx="907920" cy="519840"/>
          </a:xfrm>
        </p:grpSpPr>
        <p:sp>
          <p:nvSpPr>
            <p:cNvPr id="111" name=""/>
            <p:cNvSpPr/>
            <p:nvPr/>
          </p:nvSpPr>
          <p:spPr>
            <a:xfrm>
              <a:off x="1589040" y="201600"/>
              <a:ext cx="907920" cy="51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QUAFAR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NUTR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80,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Progenitor Pysch (E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1 Nutrients/kel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120760" y="236160"/>
              <a:ext cx="322560" cy="215640"/>
              <a:chOff x="2120760" y="236160"/>
              <a:chExt cx="322560" cy="215640"/>
            </a:xfrm>
          </p:grpSpPr>
          <p:sp>
            <p:nvSpPr>
              <p:cNvPr id="113" name=""/>
              <p:cNvSpPr/>
              <p:nvPr/>
            </p:nvSpPr>
            <p:spPr>
              <a:xfrm>
                <a:off x="2171880" y="242640"/>
                <a:ext cx="20340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20760" y="2361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4692600" y="201600"/>
            <a:ext cx="1157040" cy="641520"/>
            <a:chOff x="4692600" y="201600"/>
            <a:chExt cx="1157040" cy="641520"/>
          </a:xfrm>
        </p:grpSpPr>
        <p:sp>
          <p:nvSpPr>
            <p:cNvPr id="116" name=""/>
            <p:cNvSpPr/>
            <p:nvPr/>
          </p:nvSpPr>
          <p:spPr>
            <a:xfrm>
              <a:off x="4692600" y="201600"/>
              <a:ext cx="115704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ROOD PI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GROWTH, EFFIC, MO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OLIC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80,2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Centauri Genetics (E7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cts as Creche for alien unit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 of alien units reduced 25%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2 Police for this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498640" y="223920"/>
              <a:ext cx="322560" cy="215640"/>
              <a:chOff x="5498640" y="223920"/>
              <a:chExt cx="322560" cy="215640"/>
            </a:xfrm>
          </p:grpSpPr>
          <p:sp>
            <p:nvSpPr>
              <p:cNvPr id="118" name=""/>
              <p:cNvSpPr/>
              <p:nvPr/>
            </p:nvSpPr>
            <p:spPr>
              <a:xfrm>
                <a:off x="5550840" y="23040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498640" y="2239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57196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13560" y="6659640"/>
            <a:ext cx="125352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Arial"/>
              </a:rPr>
              <a:t>V1.1 by FMJ May 2007 – Original text by Netho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00280" y="287280"/>
            <a:ext cx="1258920" cy="58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ASCETIC VIRTU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OP ,POLIC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lanetary Economics(B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Increases the population limit of your base by two and increases your society’s tolerance for use of police and military units (+1 polic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20920" y="287280"/>
            <a:ext cx="126072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BULK MATTER TRANSMIT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6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Matter Transmission(B1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2 minerals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41920" y="287280"/>
            <a:ext cx="125892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CITIZEN’S DEFENSE FORC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DEFENS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tellectual Integrity(E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Perimeter Defense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85000" y="287280"/>
            <a:ext cx="125892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CLONING VAT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OP, MINERALS, SUPPOR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5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Biomachinery(B7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All your bases enter a permanent state of population boom and will grow every turn provided nutrient output is sufficient and habitat facilities are adequate; negative effects of the power (+2 industry) and thought control (+3support) social engineering choices are eliminate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0560" y="1222200"/>
            <a:ext cx="126072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COMMAND NEX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ORALE, REPAI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Loyalty(C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Command Center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5080" y="1222200"/>
            <a:ext cx="125748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CYBORG FACTOR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ORALE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Mind/machine Interface(C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Bioenhancement Center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1222200"/>
            <a:ext cx="1257480" cy="40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DREAM TWIS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SI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The Will to Power(E9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50 percent to psi attac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1222200"/>
            <a:ext cx="1258920" cy="64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EMPATH GUIL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COMM, VOT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Empathy(E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Lets you contact any leader and gives you an infiltrator in every faction; gives you +50 percent votes in elections for Planetary Governor and Supreme Lead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027160"/>
            <a:ext cx="12607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HUNTER-SEEKER ALGORITH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ROB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resentient Algorithms(D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Renders your units and bases completely immune to probe team infiltration of any kin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00280" y="2027160"/>
            <a:ext cx="12589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LIVING REFINER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INERALS, SUPPOR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dvanced Spaceflight(D8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Decreases minerals required to support military units; +2 support on social engineering tabl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62560" y="2027160"/>
            <a:ext cx="12607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MARITIME CONTROL CE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ORALE, REPAIR, DEFENSE, MOVEMEN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Initiative(E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Increases the movement rate of all naval units by two;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Naval Yard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85000" y="2027160"/>
            <a:ext cx="125892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MERCHANT EXCHAN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ENER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Base(B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1 energy in every square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2978280"/>
            <a:ext cx="1260720" cy="58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NANO FACTOR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REPAIR, UPGRAD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Nanorobotics(B9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Units can be repaired quickly and completely even when not in base squares; the cost to upgrade units is reduced by 50 percen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20920" y="2978280"/>
            <a:ext cx="126072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NETWORK BACKBO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LABS, POLIC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igital Sentience(D1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1 research at this base for every point of commerce this base receives; +1 research for every network node in existence on Alpha Centauri, regardless of the player owning the network node; eliminates the negative effects of cybernetic society (+3 polic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41920" y="2978280"/>
            <a:ext cx="125892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NEURAL AMPLIFI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SI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Neural Grafting(C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50 percent to psi defen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62560" y="2978280"/>
            <a:ext cx="126072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PHOLUS MUTAGE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ECOLOGY, DEFENSE, 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Genetics(E7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Reduces the effect of industry on Planet’s ecology at all your bases; conventional units get alien terrain combat modifiers;alien life forms you breed gain a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85000" y="2978280"/>
            <a:ext cx="12589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PLANETARY DATALIN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TECH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ybernetics(B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You automatically discover any technology discovered by any three other faction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82640" y="3892680"/>
            <a:ext cx="12589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PLANETARY TRANSIT SYSTE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OP, 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Automation(B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Any new bases you found begin at population level 3; one less drone at all bases of population level 3 and les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8320" y="3892680"/>
            <a:ext cx="126036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SELF-AWARE COLON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FAC MAINT, 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5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lf-Aware Machines(D1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Energy maintenance cost for facilities is halved at all your bases; if use of police is allowed under current social model, all your bases are considered to have an extra police 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35440" y="3892680"/>
            <a:ext cx="12574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SINGULARITY INDUC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INERALS, ECOLO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6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ontrolled Singularity(C1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Quantum Converter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 and  reduces the ecological effects of mineral productio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59680" y="3892680"/>
            <a:ext cx="1258560" cy="88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SPACE ELEV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ENERGY, MINERALS, ORBITAL INSER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5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uper Tensile Solids(B1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Doubles energy reserves production at this base and doubles mineral production rate at all your bases when producing orbital improvements; your units equipped with drop pods may now make orbital insertions anywhere on Planet; this project also waives any Aerospace Complex restrictions on orbital improvement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85000" y="3892680"/>
            <a:ext cx="1258920" cy="46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SUPERCOLLID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pplied Relativity(D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Research output at this base is double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4929120"/>
            <a:ext cx="12607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TELEPATHIC MATRI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DRONES, PROB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6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Eudaimonia(E1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Drones never riot at your base; all your probe teams receive a +2 morale modifi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00280" y="4929120"/>
            <a:ext cx="125892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THEORY OF EVERYTHIN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Unified Field Theory(C7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Lab output doubled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20920" y="4929120"/>
            <a:ext cx="12607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UNIVERSAL TRANS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TECH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Homo Superior(E8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Two free tech advances on completion; any number of alien artifacts can be cashed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41920" y="4929120"/>
            <a:ext cx="1258920" cy="64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VIRTUAL WORL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lanetary Networks(D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In addition to their normal effect, network nodes count as hologram theatres at each base (reduces number of drones by two and increases psych output of base by 50 percen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62560" y="4929120"/>
            <a:ext cx="1260720" cy="7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VOICE OF THE PLANE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6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Threshold of Transcendence(E1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Begins the Ascent to Transcendence sequence; any faction can now begin the Ascent to Transcendence; any alien lifeforms you breed gain a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5678640"/>
            <a:ext cx="1260720" cy="70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WEATHER PARADIG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TERRAFORM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Ecology(E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Increases terraforming speed by 50 percent for all tasks except for remove fungus; your formers may build condensers and boreholes and may raise and lower terrain, even if you have not yet discovered the appropriate technologies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3800" y="5678640"/>
            <a:ext cx="1257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XENOEMPATHY DOM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OVEMENT, LIFECYCLE, TERRAFORM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Meditation(E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All fungus squares are treated as roads, and the rate at which your formers remove or plant fungus is doubled; additionally, the fungus confers on all your units the same combat benefits normally reserved for alien life forms; any alien lifeforms you breed gain a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87280"/>
            <a:ext cx="1260720" cy="64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 ASCENT TO TRANSCENDENC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VICTOR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,0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Threshold of Transcendence(E1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mpletes the Transcendence sequence and ends the Human Era; the Ascent cannot be started until the Voice of the Planet is operationa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13080" y="5908680"/>
            <a:ext cx="9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799160" y="6006960"/>
            <a:ext cx="1410840" cy="245880"/>
            <a:chOff x="4799160" y="6006960"/>
            <a:chExt cx="1410840" cy="245880"/>
          </a:xfrm>
        </p:grpSpPr>
        <p:grpSp>
          <p:nvGrpSpPr>
            <p:cNvPr id="154" name=""/>
            <p:cNvGrpSpPr/>
            <p:nvPr/>
          </p:nvGrpSpPr>
          <p:grpSpPr>
            <a:xfrm>
              <a:off x="4799160" y="6021360"/>
              <a:ext cx="217080" cy="154800"/>
              <a:chOff x="4799160" y="6021360"/>
              <a:chExt cx="217080" cy="154800"/>
            </a:xfrm>
          </p:grpSpPr>
          <p:sp>
            <p:nvSpPr>
              <p:cNvPr id="155" name=""/>
              <p:cNvSpPr/>
              <p:nvPr/>
            </p:nvSpPr>
            <p:spPr>
              <a:xfrm>
                <a:off x="4855680" y="6046560"/>
                <a:ext cx="96480" cy="96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99160" y="6021360"/>
                <a:ext cx="21708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914720" y="6006960"/>
              <a:ext cx="12952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void Prometheus Virus Random Even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740720" y="6597720"/>
            <a:ext cx="128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Arial"/>
              </a:rPr>
              <a:t>V1.1 by FMJ May 2007 – Original text by Netho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79280" y="3892680"/>
            <a:ext cx="1238400" cy="463320"/>
            <a:chOff x="179280" y="3892680"/>
            <a:chExt cx="1238400" cy="463320"/>
          </a:xfrm>
        </p:grpSpPr>
        <p:sp>
          <p:nvSpPr>
            <p:cNvPr id="160" name=""/>
            <p:cNvSpPr/>
            <p:nvPr/>
          </p:nvSpPr>
          <p:spPr>
            <a:xfrm>
              <a:off x="179280" y="3892680"/>
              <a:ext cx="1238400" cy="46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LANETARY ENERGY GRID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ENERGY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3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Adaptive Economics (B3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Energy bank at each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25% Stockpile Energy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1025280" y="3903120"/>
              <a:ext cx="322560" cy="215640"/>
              <a:chOff x="1025280" y="3903120"/>
              <a:chExt cx="322560" cy="215640"/>
            </a:xfrm>
          </p:grpSpPr>
          <p:sp>
            <p:nvSpPr>
              <p:cNvPr id="162" name=""/>
              <p:cNvSpPr/>
              <p:nvPr/>
            </p:nvSpPr>
            <p:spPr>
              <a:xfrm flipH="1" flipV="1" rot="10800000">
                <a:off x="1093680" y="3913920"/>
                <a:ext cx="185760" cy="182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025280" y="39031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179280" y="1222200"/>
            <a:ext cx="1260360" cy="403560"/>
            <a:chOff x="179280" y="1222200"/>
            <a:chExt cx="1260360" cy="403560"/>
          </a:xfrm>
        </p:grpSpPr>
        <p:sp>
          <p:nvSpPr>
            <p:cNvPr id="165" name=""/>
            <p:cNvSpPr/>
            <p:nvPr/>
          </p:nvSpPr>
          <p:spPr>
            <a:xfrm>
              <a:off x="179280" y="1222200"/>
              <a:ext cx="1260360" cy="40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LOUDBASE ACADEMY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MORALE, REPAIR, DEFENS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3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Mind Machine Interface (C6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erospace Complex at each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086840" y="1262880"/>
              <a:ext cx="322560" cy="215640"/>
              <a:chOff x="1086840" y="1262880"/>
              <a:chExt cx="322560" cy="215640"/>
            </a:xfrm>
          </p:grpSpPr>
          <p:sp>
            <p:nvSpPr>
              <p:cNvPr id="167" name=""/>
              <p:cNvSpPr/>
              <p:nvPr/>
            </p:nvSpPr>
            <p:spPr>
              <a:xfrm flipH="1" flipV="1" rot="10800000">
                <a:off x="1155240" y="1273680"/>
                <a:ext cx="185760" cy="182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1086840" y="126288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4741920" y="2027160"/>
            <a:ext cx="1258920" cy="825480"/>
            <a:chOff x="4741920" y="2027160"/>
            <a:chExt cx="1258920" cy="825480"/>
          </a:xfrm>
        </p:grpSpPr>
        <p:sp>
          <p:nvSpPr>
            <p:cNvPr id="170" name=""/>
            <p:cNvSpPr/>
            <p:nvPr/>
          </p:nvSpPr>
          <p:spPr>
            <a:xfrm>
              <a:off x="4741920" y="2027160"/>
              <a:ext cx="12589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MANIFOLD HARMONIC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NUTRIENTS, MINERALS, ENERGY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5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Secrets of the Manifolds (D13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Increased production from Monoliths and Fungu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lanet Rating (NUT, MIN, EN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0 (0,+1,0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1 ((+1,+1,0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2 (+1,+1,+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3 (+1,+2,+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595840" y="2586960"/>
              <a:ext cx="322560" cy="215640"/>
              <a:chOff x="5595840" y="2586960"/>
              <a:chExt cx="322560" cy="215640"/>
            </a:xfrm>
          </p:grpSpPr>
          <p:sp>
            <p:nvSpPr>
              <p:cNvPr id="172" name=""/>
              <p:cNvSpPr/>
              <p:nvPr/>
            </p:nvSpPr>
            <p:spPr>
              <a:xfrm flipH="1" flipV="1" rot="10800000">
                <a:off x="5664240" y="2597760"/>
                <a:ext cx="185760" cy="182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5595840" y="25869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1700280" y="2978280"/>
            <a:ext cx="1258920" cy="583920"/>
            <a:chOff x="1700280" y="2978280"/>
            <a:chExt cx="1258920" cy="583920"/>
          </a:xfrm>
        </p:grpSpPr>
        <p:sp>
          <p:nvSpPr>
            <p:cNvPr id="175" name=""/>
            <p:cNvSpPr/>
            <p:nvPr/>
          </p:nvSpPr>
          <p:spPr>
            <a:xfrm>
              <a:off x="1700280" y="2978280"/>
              <a:ext cx="1258920" cy="58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NETHACK TERMINU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PROB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4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Self-Aware Machines (D1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ll probe teams +1 mo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 of probe teams reduced 25%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ll probe teams have Algorithmic Enhancemen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36560" y="3001320"/>
              <a:ext cx="322560" cy="215640"/>
              <a:chOff x="2536560" y="3001320"/>
              <a:chExt cx="322560" cy="215640"/>
            </a:xfrm>
          </p:grpSpPr>
          <p:sp>
            <p:nvSpPr>
              <p:cNvPr id="177" name=""/>
              <p:cNvSpPr/>
              <p:nvPr/>
            </p:nvSpPr>
            <p:spPr>
              <a:xfrm flipH="1" flipV="1" rot="10800000">
                <a:off x="2604960" y="3012120"/>
                <a:ext cx="185760" cy="182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536560" y="30013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7785000" y="1222200"/>
            <a:ext cx="1258920" cy="403200"/>
            <a:chOff x="7785000" y="1222200"/>
            <a:chExt cx="1258920" cy="403200"/>
          </a:xfrm>
        </p:grpSpPr>
        <p:sp>
          <p:nvSpPr>
            <p:cNvPr id="180" name=""/>
            <p:cNvSpPr/>
            <p:nvPr/>
          </p:nvSpPr>
          <p:spPr>
            <a:xfrm>
              <a:off x="7785000" y="1222200"/>
              <a:ext cx="1258920" cy="40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HE HUMAN GENOME PROJEC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DRONE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2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Biogenetics(D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enefits: One extra talent at every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8769240" y="1339560"/>
              <a:ext cx="217440" cy="154800"/>
              <a:chOff x="8769240" y="1339560"/>
              <a:chExt cx="217440" cy="154800"/>
            </a:xfrm>
          </p:grpSpPr>
          <p:sp>
            <p:nvSpPr>
              <p:cNvPr id="182" name=""/>
              <p:cNvSpPr/>
              <p:nvPr/>
            </p:nvSpPr>
            <p:spPr>
              <a:xfrm>
                <a:off x="8826120" y="1364760"/>
                <a:ext cx="96840" cy="96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769240" y="1339560"/>
                <a:ext cx="21744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3220920" y="2027160"/>
            <a:ext cx="1260360" cy="704880"/>
            <a:chOff x="3220920" y="2027160"/>
            <a:chExt cx="1260360" cy="704880"/>
          </a:xfrm>
        </p:grpSpPr>
        <p:sp>
          <p:nvSpPr>
            <p:cNvPr id="185" name=""/>
            <p:cNvSpPr/>
            <p:nvPr/>
          </p:nvSpPr>
          <p:spPr>
            <a:xfrm>
              <a:off x="3220920" y="2027160"/>
              <a:ext cx="1260360" cy="70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HE LONGEVITY VACCIN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DRONES, ENERGY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3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Bio-Engineering(B5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enefits: Two less drones at every base if using planned economics; one less drone at every base if using simple or green economics; energy reserves increased by 50 percent at this base for using free market economic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187160" y="2144880"/>
              <a:ext cx="217440" cy="154800"/>
              <a:chOff x="4187160" y="2144880"/>
              <a:chExt cx="217440" cy="154800"/>
            </a:xfrm>
          </p:grpSpPr>
          <p:sp>
            <p:nvSpPr>
              <p:cNvPr id="187" name=""/>
              <p:cNvSpPr/>
              <p:nvPr/>
            </p:nvSpPr>
            <p:spPr>
              <a:xfrm>
                <a:off x="4244040" y="2170080"/>
                <a:ext cx="96840" cy="96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187160" y="2144880"/>
                <a:ext cx="21744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6262560" y="287280"/>
            <a:ext cx="1260360" cy="523800"/>
            <a:chOff x="6262560" y="287280"/>
            <a:chExt cx="1260360" cy="523800"/>
          </a:xfrm>
        </p:grpSpPr>
        <p:sp>
          <p:nvSpPr>
            <p:cNvPr id="190" name=""/>
            <p:cNvSpPr/>
            <p:nvPr/>
          </p:nvSpPr>
          <p:spPr>
            <a:xfrm>
              <a:off x="6262560" y="287280"/>
              <a:ext cx="1260360" cy="52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LINICAL IMMORTALITY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DRONES, VOTE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5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Matter Editation(B12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enefit: One extra talent at every base; doubles your votes in elections for Planetary Governor and Supreme Leade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7228800" y="398160"/>
              <a:ext cx="217440" cy="154800"/>
              <a:chOff x="7228800" y="398160"/>
              <a:chExt cx="217440" cy="154800"/>
            </a:xfrm>
          </p:grpSpPr>
          <p:sp>
            <p:nvSpPr>
              <p:cNvPr id="192" name=""/>
              <p:cNvSpPr/>
              <p:nvPr/>
            </p:nvSpPr>
            <p:spPr>
              <a:xfrm>
                <a:off x="7285680" y="423720"/>
                <a:ext cx="96840" cy="96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28800" y="398160"/>
                <a:ext cx="21744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1:10:04Z</dcterms:created>
  <dc:creator>X</dc:creator>
  <dc:description/>
  <dc:language>en-US</dc:language>
  <cp:lastModifiedBy>X</cp:lastModifiedBy>
  <dcterms:modified xsi:type="dcterms:W3CDTF">2007-05-17T14:49:26Z</dcterms:modified>
  <cp:revision>10</cp:revision>
  <dc:subject/>
  <dc:title>Slide 1</dc:title>
</cp:coreProperties>
</file>