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FDD-91D8-4F15-961E-C2DBABCD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785-8E28-451E-994D-0C0AF11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5EE-354C-4CDC-8A11-2B9622E9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966-BCD5-4916-9CC6-8ACF55FF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723-4266-4386-BB8A-2248CC7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B75-5A5A-4B04-AAFA-B957D2B2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3A2-ED11-41DD-BF5B-D9EC90A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ABD-5B0F-49F4-AD2E-4260461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A45-A4D0-4F7A-BA80-EB45A764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902-ABED-4800-9566-A109B43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472-D11F-4E6B-979A-9EFA8706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657-4E29-4E1C-9429-E6A6FFC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7E2-B1B4-48C5-A8BB-6B49B909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8200" y="201600"/>
            <a:ext cx="8827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HILDREN’S CRECH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GROWTH, EFFIC, MORA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thical Calculus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receives +2 growth &amp; +2 efficiency bonus; all negative morale effects are cancelled for units in base square (these units receive +1 morale); reduces base’s vulnerability to mind control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tests/Pop. Surg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6480" y="1400040"/>
            <a:ext cx="70308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ERGY BAN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Economics(B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ower Sur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1200" y="1400040"/>
            <a:ext cx="93204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0" y="1400040"/>
            <a:ext cx="870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ITATION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6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Aolids(B10), 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size 1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34280" y="1400040"/>
            <a:ext cx="838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, EFFI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; no inefficiency; base becomes immune to enemy probe team and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344680"/>
            <a:ext cx="92736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OLOGRAM THEAT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e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; +50 percent psych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6360" y="201600"/>
            <a:ext cx="8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ENHANCEMENT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P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yborg Factory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ounts as a bioenhancement center at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litary units built here receive +2 morale bonus; any alien lifeforms you breed at this bas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201600"/>
            <a:ext cx="13687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loudbase Academy counts as aerospace complex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Air Power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pairs air units quickly; air units built at complex get +2 morale bonus; allows space-based improvements; Air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1760" y="201600"/>
            <a:ext cx="1020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MMAND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ommand Nexus counts as a command center for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Va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Mobilit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pairs damaged ground units quickly; ground units built here get +2 morale upgrad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344680"/>
            <a:ext cx="970200" cy="9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VAL Y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Maritime Control Center counts as a naval yard in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morale bonus to naval units built here; repairs damaged naval units quickly;Naval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2344680"/>
            <a:ext cx="9698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SSUS MINING 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mineral/station output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Mineral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2344680"/>
            <a:ext cx="1700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N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r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Universal Translator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allows the study of multiple alien artifacts at the same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f your colony contains several network nodes, consider researching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Backbon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ecret project, which provides +1 research for every network node in the gam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formation Network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can study an alien artifact; +50 percent labs at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Network Overload/Free Tec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" y="3817800"/>
            <a:ext cx="91152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DEFENSE 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SAT ATTACK, PLANET BUSTER DEF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50 percent chance of destroying enemy satellite; defense against planet busters;defense pods can only be deployed once per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3817800"/>
            <a:ext cx="1123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POWER TRANSMI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/transmitter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nergy bonus is halved for bases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9280" y="3817800"/>
            <a:ext cx="117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ARADISE GARD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ALENT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ntient Econometrics(E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talen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6400" y="3817800"/>
            <a:ext cx="885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SI G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Units can teleport between bases that contain psi gat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5000" y="3817800"/>
            <a:ext cx="1287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UNISHMENT SPHE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Military Algorithms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liminates drones at base; decreases vulnerability to enemy mind control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liminates talents at base; -50 percent labs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9640" y="1400040"/>
            <a:ext cx="71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FUSION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Fusion Power(D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892760"/>
            <a:ext cx="925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LAB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Power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8040" y="4892760"/>
            <a:ext cx="8971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REATION COMM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ocial Psych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3817800"/>
            <a:ext cx="111276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SSURE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Flexibility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the base survive underwater; gives base 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4892760"/>
            <a:ext cx="133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genetic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Increases nutrient, energy, and minerals output of base squ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8440" y="2344680"/>
            <a:ext cx="959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HOSPITA 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0640" y="4892760"/>
            <a:ext cx="10494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SEARCH HOSPIT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Gene Splicing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400040"/>
            <a:ext cx="798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GENEJACK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Retroviral Engineering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s outpu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: +1 drones at base; increases vulnerability to enemy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6840" y="2344680"/>
            <a:ext cx="984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REPLIC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320,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Editation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 output at base; reduces effects of minerals on Planet’s ecolo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280" y="4892760"/>
            <a:ext cx="1292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CONVER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The secret project the Singularity Inductor acts as a quantum converter for every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Machinery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5160" y="4892760"/>
            <a:ext cx="11113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OBOTIC ASSEMBLY PLA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160" y="4892760"/>
            <a:ext cx="1222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UNKWOR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ROTO COS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ubatomic Theory(D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Eliminates new unit prototype cos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" y="5854680"/>
            <a:ext cx="120348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Y HYDROPONICS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Orbital Spaceflight(D6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nutrient/lab at every base; nutrient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6040" y="5854680"/>
            <a:ext cx="94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OCKPILE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nerals produced at this base are immediately converted to energy reserves (2 minerals/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1440" y="3817800"/>
            <a:ext cx="100476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ERIMETER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itizens’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unts as a perimeter defense for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doub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3480" y="5854680"/>
            <a:ext cx="97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ACHYON FIE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obability Mechanics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trip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201600"/>
            <a:ext cx="8701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ENTAURI PRESER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effect of industry on Planet’s ecosystem; any lifeform bred here gains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854680"/>
            <a:ext cx="172080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MPLE OF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crets of Alpha Centauri(D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industry’s effect on Planet’s ecology; any lifeform bred here receives a +1 lifecycle bonus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8000" y="2344680"/>
            <a:ext cx="8096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YBRID FORES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NERGY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 base; increases nutrient and energy output of forest squares; combined with a tree farm, it eliminates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13680" y="5854680"/>
            <a:ext cx="9590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REE FAR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nvironmental Economics(B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base; increases nutrient output in forest squares; eliminates at least half the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2280" y="201600"/>
            <a:ext cx="882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LOGY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Labs bonus per turn; any alien lifeforms bred her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lanet Blight/Beneficial Bacteri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8360" y="6419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03640" y="1400040"/>
            <a:ext cx="916920" cy="641520"/>
            <a:chOff x="5003640" y="1400040"/>
            <a:chExt cx="916920" cy="641520"/>
          </a:xfrm>
        </p:grpSpPr>
        <p:sp>
          <p:nvSpPr>
            <p:cNvPr id="81" name=""/>
            <p:cNvSpPr/>
            <p:nvPr/>
          </p:nvSpPr>
          <p:spPr>
            <a:xfrm>
              <a:off x="5003640" y="1400040"/>
              <a:ext cx="9111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GEOSYNCHRONOUS SURVEY PO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6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ensor at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square sighting radi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98000" y="1542960"/>
              <a:ext cx="322560" cy="215640"/>
              <a:chOff x="5598000" y="1542960"/>
              <a:chExt cx="322560" cy="215640"/>
            </a:xfrm>
          </p:grpSpPr>
          <p:sp>
            <p:nvSpPr>
              <p:cNvPr id="83" name=""/>
              <p:cNvSpPr/>
              <p:nvPr/>
            </p:nvSpPr>
            <p:spPr>
              <a:xfrm>
                <a:off x="5650200" y="1549440"/>
                <a:ext cx="2070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98000" y="1542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049480" y="1400040"/>
            <a:ext cx="931320" cy="641520"/>
            <a:chOff x="2049480" y="1400040"/>
            <a:chExt cx="931320" cy="641520"/>
          </a:xfrm>
        </p:grpSpPr>
        <p:sp>
          <p:nvSpPr>
            <p:cNvPr id="86" name=""/>
            <p:cNvSpPr/>
            <p:nvPr/>
          </p:nvSpPr>
          <p:spPr>
            <a:xfrm>
              <a:off x="2049480" y="1400040"/>
              <a:ext cx="9108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LECHETTE DEFENSE SYSTE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SSILE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00% missile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50% chance ICBM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58240" y="1531800"/>
              <a:ext cx="322560" cy="215640"/>
              <a:chOff x="2658240" y="1531800"/>
              <a:chExt cx="32256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2710440" y="153828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58240" y="153180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363760" y="5854680"/>
            <a:ext cx="969840" cy="519840"/>
            <a:chOff x="2363760" y="5854680"/>
            <a:chExt cx="969840" cy="519840"/>
          </a:xfrm>
        </p:grpSpPr>
        <p:sp>
          <p:nvSpPr>
            <p:cNvPr id="91" name=""/>
            <p:cNvSpPr/>
            <p:nvPr/>
          </p:nvSpPr>
          <p:spPr>
            <a:xfrm>
              <a:off x="2363760" y="5854680"/>
              <a:ext cx="969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EA TRUNKL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NERAL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lanetary Economics (B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mineral/mining platfo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82600" y="5927760"/>
              <a:ext cx="322560" cy="215640"/>
              <a:chOff x="2982600" y="5927760"/>
              <a:chExt cx="322560" cy="215640"/>
            </a:xfrm>
          </p:grpSpPr>
          <p:sp>
            <p:nvSpPr>
              <p:cNvPr id="93" name=""/>
              <p:cNvSpPr/>
              <p:nvPr/>
            </p:nvSpPr>
            <p:spPr>
              <a:xfrm>
                <a:off x="3034800" y="593424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600" y="5927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7283520" y="5854680"/>
            <a:ext cx="754200" cy="702360"/>
            <a:chOff x="7283520" y="5854680"/>
            <a:chExt cx="754200" cy="702360"/>
          </a:xfrm>
        </p:grpSpPr>
        <p:sp>
          <p:nvSpPr>
            <p:cNvPr id="96" name=""/>
            <p:cNvSpPr/>
            <p:nvPr/>
          </p:nvSpPr>
          <p:spPr>
            <a:xfrm>
              <a:off x="7283520" y="5854680"/>
              <a:ext cx="71748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RMOCLINE TRANSDUC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energy/tidal harnes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15160" y="5899320"/>
              <a:ext cx="322560" cy="215640"/>
              <a:chOff x="7715160" y="5899320"/>
              <a:chExt cx="322560" cy="215640"/>
            </a:xfrm>
          </p:grpSpPr>
          <p:sp>
            <p:nvSpPr>
              <p:cNvPr id="98" name=""/>
              <p:cNvSpPr/>
              <p:nvPr/>
            </p:nvSpPr>
            <p:spPr>
              <a:xfrm>
                <a:off x="7767360" y="59058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15160" y="5899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1280" y="1400040"/>
            <a:ext cx="935280" cy="580680"/>
            <a:chOff x="71280" y="1400040"/>
            <a:chExt cx="935280" cy="580680"/>
          </a:xfrm>
        </p:grpSpPr>
        <p:sp>
          <p:nvSpPr>
            <p:cNvPr id="101" name=""/>
            <p:cNvSpPr/>
            <p:nvPr/>
          </p:nvSpPr>
          <p:spPr>
            <a:xfrm>
              <a:off x="71280" y="1400040"/>
              <a:ext cx="92232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VERT OPS 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0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Pre-Sentient Algorithms (D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bes +2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ase +2 probe rating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84000" y="1469880"/>
              <a:ext cx="322560" cy="215640"/>
              <a:chOff x="684000" y="1469880"/>
              <a:chExt cx="322560" cy="215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6200" y="147636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000" y="1469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405240" y="5854680"/>
            <a:ext cx="963720" cy="459000"/>
            <a:chOff x="3405240" y="5854680"/>
            <a:chExt cx="963720" cy="459000"/>
          </a:xfrm>
        </p:grpSpPr>
        <p:sp>
          <p:nvSpPr>
            <p:cNvPr id="106" name=""/>
            <p:cNvSpPr/>
            <p:nvPr/>
          </p:nvSpPr>
          <p:spPr>
            <a:xfrm>
              <a:off x="3405240" y="5854680"/>
              <a:ext cx="922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PACE GENERATO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600,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ingularity Mecha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genitor victory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046400" y="5924520"/>
              <a:ext cx="322560" cy="215640"/>
              <a:chOff x="4046400" y="5924520"/>
              <a:chExt cx="322560" cy="21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098600" y="59310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46400" y="59245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589040" y="201600"/>
            <a:ext cx="907920" cy="519840"/>
            <a:chOff x="1589040" y="201600"/>
            <a:chExt cx="907920" cy="519840"/>
          </a:xfrm>
        </p:grpSpPr>
        <p:sp>
          <p:nvSpPr>
            <p:cNvPr id="111" name=""/>
            <p:cNvSpPr/>
            <p:nvPr/>
          </p:nvSpPr>
          <p:spPr>
            <a:xfrm>
              <a:off x="1589040" y="201600"/>
              <a:ext cx="90792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QUAFA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NUTR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rogenitor Pysch (E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Nutrients/kel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120760" y="236160"/>
              <a:ext cx="322560" cy="215640"/>
              <a:chOff x="2120760" y="236160"/>
              <a:chExt cx="322560" cy="215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171880" y="242640"/>
                <a:ext cx="2034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0760" y="2361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692600" y="201600"/>
            <a:ext cx="1157040" cy="641520"/>
            <a:chOff x="4692600" y="201600"/>
            <a:chExt cx="1157040" cy="641520"/>
          </a:xfrm>
        </p:grpSpPr>
        <p:sp>
          <p:nvSpPr>
            <p:cNvPr id="116" name=""/>
            <p:cNvSpPr/>
            <p:nvPr/>
          </p:nvSpPr>
          <p:spPr>
            <a:xfrm>
              <a:off x="4692600" y="201600"/>
              <a:ext cx="115704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ROOD P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GROWTH, EFFIC,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OLIC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Centauri Genetics (E7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cts as Creche for alien unit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alien unit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 Police for this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98640" y="223920"/>
              <a:ext cx="322560" cy="215640"/>
              <a:chOff x="5498640" y="223920"/>
              <a:chExt cx="322560" cy="215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550840" y="2304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8640" y="2239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1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3560" y="6659640"/>
            <a:ext cx="12535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00280" y="287280"/>
            <a:ext cx="125892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ASCETIC VIRTU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 ,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population limit of your base by two and increases your society’s tolerance for use of police and military units (+1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0920" y="287280"/>
            <a:ext cx="1260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BULK MATTER TRANSM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2 minerals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28728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ITIZEN’S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tellectual Integrit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Perimeter Defense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85000" y="287280"/>
            <a:ext cx="125892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LONING VA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machinery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your bases enter a permanent state of population boom and will grow every turn provided nutrient output is sufficient and habitat facilities are adequate; negative effects of the power (+2 industry) and thought control (+3support) social engineering choices are eliminat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1222200"/>
            <a:ext cx="1260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OMMAND NEX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Command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1222200"/>
            <a:ext cx="12574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YBORG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ind/machine Interface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Bioenhancement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222200"/>
            <a:ext cx="1257480" cy="4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DREAM TWIS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e Will to Power(E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attac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22220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EMPATH GUI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COMM, VOT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ets you contact any leader and gives you an infiltrator in every faction; gives you +50 percent votes in elections for Planetary Governor and Supreme Lea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HUNTER-SEEKER ALGORITH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esentient Algorithms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nders your units and bases completely immune to probe team infiltration of any kin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0280" y="202716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LIVING REFINE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ecreases minerals required to support military units; +2 support on social engineering tab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256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ARITIME CONTROL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, DEFENSE, MOVEM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movement rate of all naval units by two;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Naval Yard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202716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ERCHANT EXCHAN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Base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energy in every square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78280"/>
            <a:ext cx="1260720" cy="5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ANO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REPAIR, UPGRAD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Units can be repaired quickly and completely even when not in base squares; the cost to upgrade units is reduced by 50 perce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0920" y="2978280"/>
            <a:ext cx="12607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TWORK BACKB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,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igital Sentience(D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research at this base for every point of commerce this base receives; +1 research for every network node in existence on Alpha Centauri, regardless of the player owning the network node; eliminates the negative effects of cybernetic society (+3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1920" y="297828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URAL AMPL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2560" y="2978280"/>
            <a:ext cx="12607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HOLUS MUTAG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COLOGY, DEFENSE, 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Genetics(E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duces the effect of industry on Planet’s ecology at all your bases; conventional units get alien terrain combat modifiers;alien life 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5000" y="29782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DATA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ybernetics(B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You automatically discover any technology discovered by any three other facti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38926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TRANSIT SYSTE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ny new bases you found begin at population level 3; one less drone at all bases of population level 3 and le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8320" y="3892680"/>
            <a:ext cx="126036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ELF-AWARE COLON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FAC MAINT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nergy maintenance cost for facilities is halved at all your bases; if use of police is allowed under current social model, all your bases are considered to have an extra police 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3892680"/>
            <a:ext cx="12574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INGULARITY INDUC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ECOLO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ontrolled Singularity(C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Quantum Conver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 and  reduces the ecological effects of mineral produc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3892680"/>
            <a:ext cx="125856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PACE ELEV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, MINERALS, ORBITAL INSE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Solids(B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oubles energy reserves production at this base and doubles mineral production rate at all your bases when producing orbital improvements; your units equipped with drop pods may now make orbital insertions anywhere on Planet; this project also waives any Aerospace Complex restrictions on orbital improvemen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3892680"/>
            <a:ext cx="12589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UPERCOLLI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pplied Relativity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search output at this base is doubl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ELEPATHIC MATR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, 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udaimonia(E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rones never riot at your base; all your probe teams receive a +2 morale mod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0280" y="492912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HEORY OF EVERYTH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Unified Field Theory(C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ab output doubl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092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UNIVERSAL TRANS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Two free tech advances on completion; any number of alien artifacts can be cash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492912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IRTUAL WOR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 addition to their normal effect, network nodes count as hologram theatres at each base (reduces number of drones by two and increases psych output of base by 50 perc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4929120"/>
            <a:ext cx="12607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OICE OF THE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Begins the Ascent to Transcendence sequence; any faction can now begin the Ascent to Transcendence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78640"/>
            <a:ext cx="126072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WEATHER PARADIG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colog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erraforming speed by 50 percent for all tasks except for remove fungus; your formers may build condensers and boreholes and may raise and lower terrain, even if you have not yet discovered the appropriate technologies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5678640"/>
            <a:ext cx="1257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XENOEMPATHY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VEMENT, LIFECYCLE, 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fungus squares are treated as roads, and the rate at which your formers remove or plant fungus is doubled; additionally, the fungus confers on all your units the same combat benefits normally reserved for alien life forms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7280"/>
            <a:ext cx="12607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 ASCENT TO TRANSCENDEN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VICTOR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,0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mpletes the Transcendence sequence and ends the Human Era; the Ascent cannot be started until the Voice of the Planet is operation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90868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9160" y="6006960"/>
            <a:ext cx="1410840" cy="245880"/>
            <a:chOff x="4799160" y="6006960"/>
            <a:chExt cx="1410840" cy="245880"/>
          </a:xfrm>
        </p:grpSpPr>
        <p:grpSp>
          <p:nvGrpSpPr>
            <p:cNvPr id="154" name=""/>
            <p:cNvGrpSpPr/>
            <p:nvPr/>
          </p:nvGrpSpPr>
          <p:grpSpPr>
            <a:xfrm>
              <a:off x="4799160" y="6021360"/>
              <a:ext cx="217080" cy="154800"/>
              <a:chOff x="4799160" y="6021360"/>
              <a:chExt cx="217080" cy="154800"/>
            </a:xfrm>
          </p:grpSpPr>
          <p:sp>
            <p:nvSpPr>
              <p:cNvPr id="155" name=""/>
              <p:cNvSpPr/>
              <p:nvPr/>
            </p:nvSpPr>
            <p:spPr>
              <a:xfrm>
                <a:off x="4855680" y="6046560"/>
                <a:ext cx="9648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9160" y="6021360"/>
                <a:ext cx="217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14720" y="6006960"/>
              <a:ext cx="129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void Prometheus Virus Random Ev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40720" y="6597720"/>
            <a:ext cx="128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892680"/>
            <a:ext cx="1238400" cy="463320"/>
            <a:chOff x="179280" y="3892680"/>
            <a:chExt cx="1238400" cy="463320"/>
          </a:xfrm>
        </p:grpSpPr>
        <p:sp>
          <p:nvSpPr>
            <p:cNvPr id="160" name=""/>
            <p:cNvSpPr/>
            <p:nvPr/>
          </p:nvSpPr>
          <p:spPr>
            <a:xfrm>
              <a:off x="179280" y="3892680"/>
              <a:ext cx="123840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ARY ENERGY GRI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nergy bank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5% Stockpile Energ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25280" y="3903120"/>
              <a:ext cx="322560" cy="215640"/>
              <a:chOff x="1025280" y="3903120"/>
              <a:chExt cx="322560" cy="215640"/>
            </a:xfrm>
          </p:grpSpPr>
          <p:sp>
            <p:nvSpPr>
              <p:cNvPr id="162" name=""/>
              <p:cNvSpPr/>
              <p:nvPr/>
            </p:nvSpPr>
            <p:spPr>
              <a:xfrm flipH="1" flipV="1" rot="10800000">
                <a:off x="1093680" y="39139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5280" y="39031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79280" y="1222200"/>
            <a:ext cx="1260360" cy="403560"/>
            <a:chOff x="179280" y="1222200"/>
            <a:chExt cx="1260360" cy="403560"/>
          </a:xfrm>
        </p:grpSpPr>
        <p:sp>
          <p:nvSpPr>
            <p:cNvPr id="165" name=""/>
            <p:cNvSpPr/>
            <p:nvPr/>
          </p:nvSpPr>
          <p:spPr>
            <a:xfrm>
              <a:off x="179280" y="1222200"/>
              <a:ext cx="126036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OUDBASE ACADEM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MORALE, REPAIR,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ind Machine Interface (C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erospace Complex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086840" y="1262880"/>
              <a:ext cx="322560" cy="215640"/>
              <a:chOff x="1086840" y="1262880"/>
              <a:chExt cx="322560" cy="215640"/>
            </a:xfrm>
          </p:grpSpPr>
          <p:sp>
            <p:nvSpPr>
              <p:cNvPr id="167" name=""/>
              <p:cNvSpPr/>
              <p:nvPr/>
            </p:nvSpPr>
            <p:spPr>
              <a:xfrm flipH="1" flipV="1" rot="10800000">
                <a:off x="1155240" y="127368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086840" y="1262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741920" y="2027160"/>
            <a:ext cx="1258920" cy="825480"/>
            <a:chOff x="4741920" y="2027160"/>
            <a:chExt cx="1258920" cy="825480"/>
          </a:xfrm>
        </p:grpSpPr>
        <p:sp>
          <p:nvSpPr>
            <p:cNvPr id="170" name=""/>
            <p:cNvSpPr/>
            <p:nvPr/>
          </p:nvSpPr>
          <p:spPr>
            <a:xfrm>
              <a:off x="4741920" y="2027160"/>
              <a:ext cx="1258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ANIFOLD HARMO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NUTRIENTS, MINERAL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crets of the Manifolds (D1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creased production from Monoliths and Fung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 Rating (NUT, MIN, EN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0 (0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 ((+1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2 (+1,+1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(+1,+2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95840" y="2586960"/>
              <a:ext cx="322560" cy="215640"/>
              <a:chOff x="5595840" y="2586960"/>
              <a:chExt cx="322560" cy="215640"/>
            </a:xfrm>
          </p:grpSpPr>
          <p:sp>
            <p:nvSpPr>
              <p:cNvPr id="172" name=""/>
              <p:cNvSpPr/>
              <p:nvPr/>
            </p:nvSpPr>
            <p:spPr>
              <a:xfrm flipH="1" flipV="1" rot="10800000">
                <a:off x="5664240" y="259776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95840" y="2586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700280" y="2978280"/>
            <a:ext cx="1258920" cy="583920"/>
            <a:chOff x="1700280" y="2978280"/>
            <a:chExt cx="1258920" cy="583920"/>
          </a:xfrm>
        </p:grpSpPr>
        <p:sp>
          <p:nvSpPr>
            <p:cNvPr id="175" name=""/>
            <p:cNvSpPr/>
            <p:nvPr/>
          </p:nvSpPr>
          <p:spPr>
            <a:xfrm>
              <a:off x="1700280" y="2978280"/>
              <a:ext cx="125892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NETHACK TERMIN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4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lf-Aware Machines (D1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+1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probe team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have Algorithmic Enhance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36560" y="3001320"/>
              <a:ext cx="322560" cy="215640"/>
              <a:chOff x="2536560" y="3001320"/>
              <a:chExt cx="322560" cy="215640"/>
            </a:xfrm>
          </p:grpSpPr>
          <p:sp>
            <p:nvSpPr>
              <p:cNvPr id="177" name=""/>
              <p:cNvSpPr/>
              <p:nvPr/>
            </p:nvSpPr>
            <p:spPr>
              <a:xfrm flipH="1" flipV="1" rot="10800000">
                <a:off x="2604960" y="30121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36560" y="3001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7785000" y="1222200"/>
            <a:ext cx="1258920" cy="403200"/>
            <a:chOff x="7785000" y="1222200"/>
            <a:chExt cx="1258920" cy="403200"/>
          </a:xfrm>
        </p:grpSpPr>
        <p:sp>
          <p:nvSpPr>
            <p:cNvPr id="180" name=""/>
            <p:cNvSpPr/>
            <p:nvPr/>
          </p:nvSpPr>
          <p:spPr>
            <a:xfrm>
              <a:off x="7785000" y="1222200"/>
              <a:ext cx="125892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HUMAN GENOME PROJEC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2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genetics(D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One extra talent at every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8769240" y="1339560"/>
              <a:ext cx="217440" cy="154800"/>
              <a:chOff x="8769240" y="1339560"/>
              <a:chExt cx="217440" cy="154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826120" y="136476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769240" y="13395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20920" y="2027160"/>
            <a:ext cx="1260360" cy="704880"/>
            <a:chOff x="3220920" y="2027160"/>
            <a:chExt cx="1260360" cy="704880"/>
          </a:xfrm>
        </p:grpSpPr>
        <p:sp>
          <p:nvSpPr>
            <p:cNvPr id="185" name=""/>
            <p:cNvSpPr/>
            <p:nvPr/>
          </p:nvSpPr>
          <p:spPr>
            <a:xfrm>
              <a:off x="3220920" y="2027160"/>
              <a:ext cx="126036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LONGEVITY VACC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-Engineering(B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Two less drones at every base if using planned economics; one less drone at every base if using simple or green economics; energy reserves increased by 50 percent at this base for using free market econom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87160" y="2144880"/>
              <a:ext cx="217440" cy="154800"/>
              <a:chOff x="4187160" y="2144880"/>
              <a:chExt cx="217440" cy="154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244040" y="217008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87160" y="214488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62560" y="287280"/>
            <a:ext cx="1260360" cy="523800"/>
            <a:chOff x="6262560" y="287280"/>
            <a:chExt cx="1260360" cy="523800"/>
          </a:xfrm>
        </p:grpSpPr>
        <p:sp>
          <p:nvSpPr>
            <p:cNvPr id="190" name=""/>
            <p:cNvSpPr/>
            <p:nvPr/>
          </p:nvSpPr>
          <p:spPr>
            <a:xfrm>
              <a:off x="6262560" y="287280"/>
              <a:ext cx="1260360" cy="5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INICAL IMMORTALIT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VOT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atter Editation(B1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: One extra talent at every base; doubles your votes in elections for Planetary Governor and Supreme Lead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28800" y="398160"/>
              <a:ext cx="217440" cy="154800"/>
              <a:chOff x="7228800" y="398160"/>
              <a:chExt cx="217440" cy="154800"/>
            </a:xfrm>
          </p:grpSpPr>
          <p:sp>
            <p:nvSpPr>
              <p:cNvPr id="192" name=""/>
              <p:cNvSpPr/>
              <p:nvPr/>
            </p:nvSpPr>
            <p:spPr>
              <a:xfrm>
                <a:off x="7285680" y="423720"/>
                <a:ext cx="96840" cy="9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28800" y="3981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1:10:04Z</dcterms:created>
  <dc:creator>X</dc:creator>
  <dc:description/>
  <dc:language>en-US</dc:language>
  <cp:lastModifiedBy>X</cp:lastModifiedBy>
  <dcterms:modified xsi:type="dcterms:W3CDTF">2007-05-17T14:49:26Z</dcterms:modified>
  <cp:revision>10</cp:revision>
  <dc:subject/>
  <dc:title>Slide 1</dc:title>
</cp:coreProperties>
</file>