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1DB-FC3F-498F-B4A6-832E09BC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D93-C9DF-47F2-8459-E328F46C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8C6-6413-46BE-A597-A9B1AFE3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23A-EB36-4FE8-8BA8-219C4967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9B7-67F3-44E9-BC46-306AC6C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E7A-4D41-44EC-A4BC-984F3312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C2D-09EC-4361-BAA7-6B06200A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42E-BD35-44B8-BCB2-8E8B2FB7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766-9500-4FB6-A2B2-445B7D1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1AF-B7CB-469A-AD5D-30EB484A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902-E39A-44AA-9485-DF4D9EC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A38-BB86-4E5F-B372-A1668202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DA63-A331-440D-B56C-42BF288EB45B}" type="slidenum"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93040" y="247680"/>
            <a:ext cx="473040" cy="484200"/>
            <a:chOff x="8393040" y="247680"/>
            <a:chExt cx="473040" cy="484200"/>
          </a:xfrm>
        </p:grpSpPr>
        <p:sp>
          <p:nvSpPr>
            <p:cNvPr id="6" name=""/>
            <p:cNvSpPr/>
            <p:nvPr/>
          </p:nvSpPr>
          <p:spPr>
            <a:xfrm>
              <a:off x="8393040" y="399600"/>
              <a:ext cx="343440" cy="200160"/>
            </a:xfrm>
            <a:custGeom>
              <a:avLst/>
              <a:gdLst/>
              <a:ahLst/>
              <a:rect l="l" t="t" r="r" b="b"/>
              <a:pathLst>
                <a:path w="672" h="340">
                  <a:moveTo>
                    <a:pt x="318" y="185"/>
                  </a:moveTo>
                  <a:cubicBezTo>
                    <a:pt x="318" y="82"/>
                    <a:pt x="371" y="0"/>
                    <a:pt x="503" y="0"/>
                  </a:cubicBezTo>
                  <a:cubicBezTo>
                    <a:pt x="635" y="0"/>
                    <a:pt x="672" y="81"/>
                    <a:pt x="672" y="170"/>
                  </a:cubicBezTo>
                  <a:cubicBezTo>
                    <a:pt x="672" y="259"/>
                    <a:pt x="621" y="310"/>
                    <a:pt x="510" y="325"/>
                  </a:cubicBezTo>
                  <a:cubicBezTo>
                    <a:pt x="399" y="340"/>
                    <a:pt x="40" y="335"/>
                    <a:pt x="0" y="333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93040" y="247680"/>
              <a:ext cx="473040" cy="484200"/>
            </a:xfrm>
            <a:custGeom>
              <a:avLst/>
              <a:gdLst/>
              <a:ahLst/>
              <a:rect l="l" t="t" r="r" b="b"/>
              <a:pathLst>
                <a:path w="926" h="822">
                  <a:moveTo>
                    <a:pt x="67" y="436"/>
                  </a:moveTo>
                  <a:cubicBezTo>
                    <a:pt x="74" y="215"/>
                    <a:pt x="236" y="0"/>
                    <a:pt x="539" y="0"/>
                  </a:cubicBezTo>
                  <a:cubicBezTo>
                    <a:pt x="842" y="0"/>
                    <a:pt x="926" y="294"/>
                    <a:pt x="923" y="414"/>
                  </a:cubicBezTo>
                  <a:cubicBezTo>
                    <a:pt x="920" y="534"/>
                    <a:pt x="827" y="812"/>
                    <a:pt x="525" y="817"/>
                  </a:cubicBezTo>
                  <a:cubicBezTo>
                    <a:pt x="223" y="822"/>
                    <a:pt x="85" y="817"/>
                    <a:pt x="0" y="8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582040" y="6473880"/>
            <a:ext cx="448920" cy="315720"/>
            <a:chOff x="8582040" y="6473880"/>
            <a:chExt cx="448920" cy="315720"/>
          </a:xfrm>
        </p:grpSpPr>
        <p:grpSp>
          <p:nvGrpSpPr>
            <p:cNvPr id="9" name=""/>
            <p:cNvGrpSpPr/>
            <p:nvPr/>
          </p:nvGrpSpPr>
          <p:grpSpPr>
            <a:xfrm>
              <a:off x="8778960" y="6473880"/>
              <a:ext cx="252000" cy="313920"/>
              <a:chOff x="8778960" y="6473880"/>
              <a:chExt cx="252000" cy="313920"/>
            </a:xfrm>
          </p:grpSpPr>
          <p:sp>
            <p:nvSpPr>
              <p:cNvPr id="10" name=""/>
              <p:cNvSpPr/>
              <p:nvPr/>
            </p:nvSpPr>
            <p:spPr>
              <a:xfrm>
                <a:off x="8778960" y="6473880"/>
                <a:ext cx="250560" cy="171720"/>
              </a:xfrm>
              <a:custGeom>
                <a:avLst/>
                <a:gdLst/>
                <a:ahLst/>
                <a:rect l="l" t="t" r="r" b="b"/>
                <a:pathLst>
                  <a:path w="215" h="206">
                    <a:moveTo>
                      <a:pt x="215" y="0"/>
                    </a:moveTo>
                    <a:cubicBezTo>
                      <a:pt x="188" y="40"/>
                      <a:pt x="153" y="76"/>
                      <a:pt x="119" y="110"/>
                    </a:cubicBezTo>
                    <a:cubicBezTo>
                      <a:pt x="111" y="118"/>
                      <a:pt x="105" y="127"/>
                      <a:pt x="96" y="133"/>
                    </a:cubicBezTo>
                    <a:cubicBezTo>
                      <a:pt x="81" y="143"/>
                      <a:pt x="52" y="162"/>
                      <a:pt x="52" y="162"/>
                    </a:cubicBezTo>
                    <a:cubicBezTo>
                      <a:pt x="35" y="187"/>
                      <a:pt x="21" y="187"/>
                      <a:pt x="0" y="206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853120" y="6591240"/>
                <a:ext cx="20880" cy="196560"/>
              </a:xfrm>
              <a:custGeom>
                <a:avLst/>
                <a:gdLst/>
                <a:ahLst/>
                <a:rect l="l" t="t" r="r" b="b"/>
                <a:pathLst>
                  <a:path w="15" h="134">
                    <a:moveTo>
                      <a:pt x="15" y="0"/>
                    </a:moveTo>
                    <a:cubicBezTo>
                      <a:pt x="0" y="77"/>
                      <a:pt x="9" y="8"/>
                      <a:pt x="9" y="134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892360" y="6577920"/>
                <a:ext cx="138600" cy="190800"/>
              </a:xfrm>
              <a:custGeom>
                <a:avLst/>
                <a:gdLst/>
                <a:ahLst/>
                <a:rect l="l" t="t" r="r" b="b"/>
                <a:pathLst>
                  <a:path w="119" h="229">
                    <a:moveTo>
                      <a:pt x="7" y="67"/>
                    </a:moveTo>
                    <a:cubicBezTo>
                      <a:pt x="12" y="150"/>
                      <a:pt x="0" y="173"/>
                      <a:pt x="36" y="229"/>
                    </a:cubicBezTo>
                    <a:cubicBezTo>
                      <a:pt x="119" y="210"/>
                      <a:pt x="81" y="71"/>
                      <a:pt x="81" y="0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82040" y="6589800"/>
              <a:ext cx="176040" cy="199800"/>
              <a:chOff x="8582040" y="6589800"/>
              <a:chExt cx="176040" cy="199800"/>
            </a:xfrm>
          </p:grpSpPr>
          <p:sp>
            <p:nvSpPr>
              <p:cNvPr id="14" name=""/>
              <p:cNvSpPr/>
              <p:nvPr/>
            </p:nvSpPr>
            <p:spPr>
              <a:xfrm>
                <a:off x="8582040" y="6589800"/>
                <a:ext cx="176040" cy="199800"/>
              </a:xfrm>
              <a:custGeom>
                <a:avLst/>
                <a:gdLst/>
                <a:ahLst/>
                <a:rect l="l" t="t" r="r" b="b"/>
                <a:pathLst>
                  <a:path w="495" h="481">
                    <a:moveTo>
                      <a:pt x="495" y="251"/>
                    </a:moveTo>
                    <a:cubicBezTo>
                      <a:pt x="489" y="225"/>
                      <a:pt x="486" y="186"/>
                      <a:pt x="473" y="162"/>
                    </a:cubicBezTo>
                    <a:cubicBezTo>
                      <a:pt x="448" y="116"/>
                      <a:pt x="405" y="66"/>
                      <a:pt x="362" y="37"/>
                    </a:cubicBezTo>
                    <a:cubicBezTo>
                      <a:pt x="344" y="10"/>
                      <a:pt x="333" y="9"/>
                      <a:pt x="303" y="0"/>
                    </a:cubicBezTo>
                    <a:cubicBezTo>
                      <a:pt x="292" y="1"/>
                      <a:pt x="182" y="3"/>
                      <a:pt x="148" y="15"/>
                    </a:cubicBezTo>
                    <a:cubicBezTo>
                      <a:pt x="139" y="18"/>
                      <a:pt x="134" y="27"/>
                      <a:pt x="125" y="30"/>
                    </a:cubicBezTo>
                    <a:cubicBezTo>
                      <a:pt x="106" y="37"/>
                      <a:pt x="66" y="44"/>
                      <a:pt x="66" y="44"/>
                    </a:cubicBezTo>
                    <a:cubicBezTo>
                      <a:pt x="40" y="62"/>
                      <a:pt x="40" y="77"/>
                      <a:pt x="22" y="103"/>
                    </a:cubicBezTo>
                    <a:cubicBezTo>
                      <a:pt x="15" y="126"/>
                      <a:pt x="7" y="148"/>
                      <a:pt x="0" y="170"/>
                    </a:cubicBezTo>
                    <a:cubicBezTo>
                      <a:pt x="2" y="222"/>
                      <a:pt x="3" y="273"/>
                      <a:pt x="7" y="325"/>
                    </a:cubicBezTo>
                    <a:cubicBezTo>
                      <a:pt x="10" y="355"/>
                      <a:pt x="32" y="368"/>
                      <a:pt x="52" y="384"/>
                    </a:cubicBezTo>
                    <a:cubicBezTo>
                      <a:pt x="107" y="429"/>
                      <a:pt x="151" y="466"/>
                      <a:pt x="221" y="480"/>
                    </a:cubicBezTo>
                    <a:cubicBezTo>
                      <a:pt x="241" y="478"/>
                      <a:pt x="297" y="481"/>
                      <a:pt x="325" y="465"/>
                    </a:cubicBezTo>
                    <a:cubicBezTo>
                      <a:pt x="340" y="456"/>
                      <a:pt x="354" y="446"/>
                      <a:pt x="369" y="436"/>
                    </a:cubicBezTo>
                    <a:cubicBezTo>
                      <a:pt x="376" y="431"/>
                      <a:pt x="391" y="421"/>
                      <a:pt x="391" y="421"/>
                    </a:cubicBezTo>
                    <a:cubicBezTo>
                      <a:pt x="396" y="414"/>
                      <a:pt x="400" y="405"/>
                      <a:pt x="406" y="399"/>
                    </a:cubicBezTo>
                    <a:cubicBezTo>
                      <a:pt x="412" y="393"/>
                      <a:pt x="422" y="391"/>
                      <a:pt x="428" y="384"/>
                    </a:cubicBezTo>
                    <a:cubicBezTo>
                      <a:pt x="440" y="371"/>
                      <a:pt x="458" y="340"/>
                      <a:pt x="458" y="340"/>
                    </a:cubicBezTo>
                    <a:cubicBezTo>
                      <a:pt x="461" y="330"/>
                      <a:pt x="479" y="251"/>
                      <a:pt x="495" y="251"/>
                    </a:cubicBez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16240" y="6634080"/>
                <a:ext cx="97200" cy="108720"/>
              </a:xfrm>
              <a:custGeom>
                <a:avLst/>
                <a:gdLst/>
                <a:ahLst/>
                <a:rect l="l" t="t" r="r" b="b"/>
                <a:pathLst>
                  <a:path w="229" h="262">
                    <a:moveTo>
                      <a:pt x="229" y="78"/>
                    </a:moveTo>
                    <a:cubicBezTo>
                      <a:pt x="224" y="61"/>
                      <a:pt x="222" y="46"/>
                      <a:pt x="207" y="33"/>
                    </a:cubicBezTo>
                    <a:cubicBezTo>
                      <a:pt x="194" y="22"/>
                      <a:pt x="163" y="4"/>
                      <a:pt x="163" y="4"/>
                    </a:cubicBezTo>
                    <a:cubicBezTo>
                      <a:pt x="42" y="13"/>
                      <a:pt x="100" y="0"/>
                      <a:pt x="30" y="48"/>
                    </a:cubicBezTo>
                    <a:cubicBezTo>
                      <a:pt x="21" y="72"/>
                      <a:pt x="8" y="91"/>
                      <a:pt x="0" y="115"/>
                    </a:cubicBezTo>
                    <a:cubicBezTo>
                      <a:pt x="8" y="206"/>
                      <a:pt x="0" y="234"/>
                      <a:pt x="89" y="262"/>
                    </a:cubicBezTo>
                    <a:cubicBezTo>
                      <a:pt x="114" y="260"/>
                      <a:pt x="139" y="259"/>
                      <a:pt x="163" y="255"/>
                    </a:cubicBezTo>
                    <a:cubicBezTo>
                      <a:pt x="171" y="254"/>
                      <a:pt x="180" y="253"/>
                      <a:pt x="185" y="247"/>
                    </a:cubicBezTo>
                    <a:cubicBezTo>
                      <a:pt x="190" y="241"/>
                      <a:pt x="192" y="225"/>
                      <a:pt x="192" y="225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43828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413400">
            <a:off x="3352680" y="1523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82880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413400">
            <a:off x="6705720" y="2666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7010280"/>
            <a:ext cx="7543800" cy="16462440"/>
            <a:chOff x="1066680" y="7010280"/>
            <a:chExt cx="7543800" cy="16462440"/>
          </a:xfrm>
        </p:grpSpPr>
        <p:sp>
          <p:nvSpPr>
            <p:cNvPr id="57" name=""/>
            <p:cNvSpPr/>
            <p:nvPr/>
          </p:nvSpPr>
          <p:spPr>
            <a:xfrm>
              <a:off x="2057400" y="19049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4080" y="18516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19431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560" y="18592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20574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164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19888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160" y="20649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20345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6459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2110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6687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16535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7145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560" y="17525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7760" y="17678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148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844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811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360" y="2103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7830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560" y="16916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15849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15468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7560" y="18516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160" y="177544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160" y="21945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7906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18135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22174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19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3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16992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560" y="2316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2935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22326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760" y="18821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897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19964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1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20878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20954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360" y="16992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6840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17983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4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17830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18745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3960" y="20116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360" y="18135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18211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19659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2560" y="17297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15392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4859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2160" y="14934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49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16230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12801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3030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12877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13487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13868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14020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14782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14173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160" y="13258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12115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14859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4760" y="14096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14249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14477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560" y="12801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19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13334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360" y="15163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2200" y="15239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6306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67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3960" y="13334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13182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5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14325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19760" y="14173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5087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14477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4554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16002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160" y="136396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360" y="11430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560" y="11810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10972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11734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12268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8839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10058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760" y="960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160" y="10820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2191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701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7400" y="7848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8153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10134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10515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0960" y="1173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12344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100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967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21200" y="754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62880" y="7461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91520" y="7397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192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198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204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206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212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214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220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247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258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261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929200" y="440064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4920" y="411480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5120" y="3786120"/>
            <a:ext cx="371160" cy="41436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7640" y="343692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308628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340056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2320" y="3714840"/>
            <a:ext cx="538200" cy="69984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9000" y="420696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4960" y="394164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5960" y="3624120"/>
            <a:ext cx="299880" cy="35748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8840" y="3268800"/>
            <a:ext cx="299880" cy="31248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324240"/>
            <a:ext cx="24300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6400" y="363852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3080" y="395280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10120" y="43243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5840" y="403848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040" y="3710160"/>
            <a:ext cx="371520" cy="41400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38560" y="336060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49920" y="413064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65880" y="386568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6880" y="3548160"/>
            <a:ext cx="299880" cy="35712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9760" y="3192480"/>
            <a:ext cx="299880" cy="31284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5720" y="306720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1880" y="338148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28920" y="369576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76840" y="3305160"/>
            <a:ext cx="24264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3000" y="361944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0040" y="393372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297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325600" y="504000"/>
            <a:ext cx="4141800" cy="6044400"/>
            <a:chOff x="2325600" y="504000"/>
            <a:chExt cx="4141800" cy="6044400"/>
          </a:xfrm>
        </p:grpSpPr>
        <p:grpSp>
          <p:nvGrpSpPr>
            <p:cNvPr id="348" name=""/>
            <p:cNvGrpSpPr/>
            <p:nvPr/>
          </p:nvGrpSpPr>
          <p:grpSpPr>
            <a:xfrm>
              <a:off x="2325600" y="504000"/>
              <a:ext cx="4141800" cy="6044400"/>
              <a:chOff x="2325600" y="504000"/>
              <a:chExt cx="4141800" cy="60444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325600" y="504000"/>
                <a:ext cx="4141800" cy="6044400"/>
                <a:chOff x="2325600" y="504000"/>
                <a:chExt cx="4141800" cy="604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938760" y="4319640"/>
                  <a:ext cx="1509480" cy="2228760"/>
                </a:xfrm>
                <a:custGeom>
                  <a:avLst/>
                  <a:gdLst/>
                  <a:ahLst/>
                  <a:rect l="l" t="t" r="r" b="b"/>
                  <a:pathLst>
                    <a:path w="951" h="1404">
                      <a:moveTo>
                        <a:pt x="471" y="204"/>
                      </a:moveTo>
                      <a:cubicBezTo>
                        <a:pt x="500" y="184"/>
                        <a:pt x="514" y="161"/>
                        <a:pt x="543" y="141"/>
                      </a:cubicBezTo>
                      <a:cubicBezTo>
                        <a:pt x="589" y="72"/>
                        <a:pt x="650" y="22"/>
                        <a:pt x="732" y="6"/>
                      </a:cubicBezTo>
                      <a:cubicBezTo>
                        <a:pt x="780" y="9"/>
                        <a:pt x="828" y="9"/>
                        <a:pt x="876" y="15"/>
                      </a:cubicBezTo>
                      <a:cubicBezTo>
                        <a:pt x="895" y="18"/>
                        <a:pt x="894" y="0"/>
                        <a:pt x="912" y="6"/>
                      </a:cubicBezTo>
                      <a:cubicBezTo>
                        <a:pt x="921" y="9"/>
                        <a:pt x="951" y="15"/>
                        <a:pt x="951" y="15"/>
                      </a:cubicBezTo>
                      <a:cubicBezTo>
                        <a:pt x="912" y="114"/>
                        <a:pt x="898" y="237"/>
                        <a:pt x="867" y="330"/>
                      </a:cubicBezTo>
                      <a:cubicBezTo>
                        <a:pt x="859" y="353"/>
                        <a:pt x="854" y="391"/>
                        <a:pt x="840" y="411"/>
                      </a:cubicBezTo>
                      <a:cubicBezTo>
                        <a:pt x="802" y="469"/>
                        <a:pt x="781" y="534"/>
                        <a:pt x="759" y="600"/>
                      </a:cubicBezTo>
                      <a:cubicBezTo>
                        <a:pt x="756" y="610"/>
                        <a:pt x="745" y="617"/>
                        <a:pt x="741" y="627"/>
                      </a:cubicBezTo>
                      <a:cubicBezTo>
                        <a:pt x="724" y="665"/>
                        <a:pt x="720" y="726"/>
                        <a:pt x="696" y="762"/>
                      </a:cubicBezTo>
                      <a:cubicBezTo>
                        <a:pt x="667" y="806"/>
                        <a:pt x="645" y="850"/>
                        <a:pt x="624" y="897"/>
                      </a:cubicBezTo>
                      <a:cubicBezTo>
                        <a:pt x="616" y="914"/>
                        <a:pt x="612" y="933"/>
                        <a:pt x="606" y="951"/>
                      </a:cubicBezTo>
                      <a:cubicBezTo>
                        <a:pt x="597" y="978"/>
                        <a:pt x="573" y="1006"/>
                        <a:pt x="561" y="1032"/>
                      </a:cubicBezTo>
                      <a:cubicBezTo>
                        <a:pt x="538" y="1084"/>
                        <a:pt x="530" y="1125"/>
                        <a:pt x="480" y="1158"/>
                      </a:cubicBezTo>
                      <a:cubicBezTo>
                        <a:pt x="460" y="1218"/>
                        <a:pt x="435" y="1267"/>
                        <a:pt x="399" y="1320"/>
                      </a:cubicBezTo>
                      <a:cubicBezTo>
                        <a:pt x="388" y="1336"/>
                        <a:pt x="363" y="1332"/>
                        <a:pt x="345" y="1338"/>
                      </a:cubicBezTo>
                      <a:cubicBezTo>
                        <a:pt x="298" y="1354"/>
                        <a:pt x="248" y="1358"/>
                        <a:pt x="201" y="1374"/>
                      </a:cubicBezTo>
                      <a:cubicBezTo>
                        <a:pt x="159" y="1371"/>
                        <a:pt x="90" y="1404"/>
                        <a:pt x="75" y="1365"/>
                      </a:cubicBezTo>
                      <a:cubicBezTo>
                        <a:pt x="0" y="1164"/>
                        <a:pt x="83" y="1062"/>
                        <a:pt x="156" y="915"/>
                      </a:cubicBezTo>
                      <a:cubicBezTo>
                        <a:pt x="184" y="859"/>
                        <a:pt x="193" y="796"/>
                        <a:pt x="228" y="744"/>
                      </a:cubicBezTo>
                      <a:cubicBezTo>
                        <a:pt x="252" y="649"/>
                        <a:pt x="219" y="761"/>
                        <a:pt x="255" y="681"/>
                      </a:cubicBezTo>
                      <a:cubicBezTo>
                        <a:pt x="282" y="620"/>
                        <a:pt x="287" y="563"/>
                        <a:pt x="327" y="510"/>
                      </a:cubicBezTo>
                      <a:cubicBezTo>
                        <a:pt x="348" y="447"/>
                        <a:pt x="385" y="370"/>
                        <a:pt x="417" y="312"/>
                      </a:cubicBezTo>
                      <a:cubicBezTo>
                        <a:pt x="428" y="293"/>
                        <a:pt x="441" y="276"/>
                        <a:pt x="453" y="258"/>
                      </a:cubicBezTo>
                      <a:cubicBezTo>
                        <a:pt x="464" y="242"/>
                        <a:pt x="471" y="204"/>
                        <a:pt x="471" y="204"/>
                      </a:cubicBezTo>
                      <a:close/>
                    </a:path>
                  </a:pathLst>
                </a:custGeom>
                <a:solidFill>
                  <a:srgbClr val="6600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38560" y="3571920"/>
                  <a:ext cx="2209680" cy="1042920"/>
                </a:xfrm>
                <a:custGeom>
                  <a:avLst/>
                  <a:gdLst/>
                  <a:ahLst/>
                  <a:rect l="l" t="t" r="r" b="b"/>
                  <a:pathLst>
                    <a:path w="1392" h="657">
                      <a:moveTo>
                        <a:pt x="12" y="117"/>
                      </a:moveTo>
                      <a:cubicBezTo>
                        <a:pt x="15" y="116"/>
                        <a:pt x="93" y="90"/>
                        <a:pt x="93" y="90"/>
                      </a:cubicBezTo>
                      <a:cubicBezTo>
                        <a:pt x="114" y="83"/>
                        <a:pt x="126" y="61"/>
                        <a:pt x="147" y="54"/>
                      </a:cubicBezTo>
                      <a:cubicBezTo>
                        <a:pt x="165" y="48"/>
                        <a:pt x="183" y="42"/>
                        <a:pt x="201" y="36"/>
                      </a:cubicBezTo>
                      <a:cubicBezTo>
                        <a:pt x="228" y="27"/>
                        <a:pt x="255" y="18"/>
                        <a:pt x="282" y="9"/>
                      </a:cubicBezTo>
                      <a:cubicBezTo>
                        <a:pt x="291" y="6"/>
                        <a:pt x="309" y="0"/>
                        <a:pt x="309" y="0"/>
                      </a:cubicBezTo>
                      <a:cubicBezTo>
                        <a:pt x="324" y="3"/>
                        <a:pt x="339" y="6"/>
                        <a:pt x="354" y="9"/>
                      </a:cubicBezTo>
                      <a:cubicBezTo>
                        <a:pt x="378" y="15"/>
                        <a:pt x="426" y="27"/>
                        <a:pt x="426" y="27"/>
                      </a:cubicBezTo>
                      <a:cubicBezTo>
                        <a:pt x="435" y="33"/>
                        <a:pt x="445" y="37"/>
                        <a:pt x="453" y="45"/>
                      </a:cubicBezTo>
                      <a:cubicBezTo>
                        <a:pt x="461" y="53"/>
                        <a:pt x="463" y="65"/>
                        <a:pt x="471" y="72"/>
                      </a:cubicBezTo>
                      <a:cubicBezTo>
                        <a:pt x="488" y="87"/>
                        <a:pt x="554" y="126"/>
                        <a:pt x="579" y="135"/>
                      </a:cubicBezTo>
                      <a:cubicBezTo>
                        <a:pt x="602" y="143"/>
                        <a:pt x="651" y="153"/>
                        <a:pt x="651" y="153"/>
                      </a:cubicBezTo>
                      <a:cubicBezTo>
                        <a:pt x="709" y="191"/>
                        <a:pt x="784" y="212"/>
                        <a:pt x="849" y="234"/>
                      </a:cubicBezTo>
                      <a:cubicBezTo>
                        <a:pt x="880" y="244"/>
                        <a:pt x="899" y="278"/>
                        <a:pt x="930" y="288"/>
                      </a:cubicBezTo>
                      <a:cubicBezTo>
                        <a:pt x="955" y="296"/>
                        <a:pt x="1014" y="308"/>
                        <a:pt x="1038" y="324"/>
                      </a:cubicBezTo>
                      <a:cubicBezTo>
                        <a:pt x="1047" y="330"/>
                        <a:pt x="1055" y="338"/>
                        <a:pt x="1065" y="342"/>
                      </a:cubicBezTo>
                      <a:cubicBezTo>
                        <a:pt x="1091" y="352"/>
                        <a:pt x="1119" y="353"/>
                        <a:pt x="1146" y="360"/>
                      </a:cubicBezTo>
                      <a:cubicBezTo>
                        <a:pt x="1164" y="372"/>
                        <a:pt x="1179" y="389"/>
                        <a:pt x="1200" y="396"/>
                      </a:cubicBezTo>
                      <a:cubicBezTo>
                        <a:pt x="1229" y="406"/>
                        <a:pt x="1263" y="409"/>
                        <a:pt x="1290" y="423"/>
                      </a:cubicBezTo>
                      <a:cubicBezTo>
                        <a:pt x="1300" y="428"/>
                        <a:pt x="1307" y="437"/>
                        <a:pt x="1317" y="441"/>
                      </a:cubicBezTo>
                      <a:cubicBezTo>
                        <a:pt x="1334" y="449"/>
                        <a:pt x="1371" y="459"/>
                        <a:pt x="1371" y="459"/>
                      </a:cubicBezTo>
                      <a:cubicBezTo>
                        <a:pt x="1377" y="468"/>
                        <a:pt x="1392" y="476"/>
                        <a:pt x="1389" y="486"/>
                      </a:cubicBezTo>
                      <a:cubicBezTo>
                        <a:pt x="1387" y="495"/>
                        <a:pt x="1371" y="493"/>
                        <a:pt x="1362" y="495"/>
                      </a:cubicBezTo>
                      <a:cubicBezTo>
                        <a:pt x="1311" y="508"/>
                        <a:pt x="1327" y="499"/>
                        <a:pt x="1281" y="513"/>
                      </a:cubicBezTo>
                      <a:cubicBezTo>
                        <a:pt x="1244" y="524"/>
                        <a:pt x="1227" y="526"/>
                        <a:pt x="1200" y="549"/>
                      </a:cubicBezTo>
                      <a:cubicBezTo>
                        <a:pt x="1167" y="576"/>
                        <a:pt x="1133" y="616"/>
                        <a:pt x="1092" y="630"/>
                      </a:cubicBezTo>
                      <a:cubicBezTo>
                        <a:pt x="1012" y="657"/>
                        <a:pt x="1057" y="646"/>
                        <a:pt x="957" y="657"/>
                      </a:cubicBezTo>
                      <a:cubicBezTo>
                        <a:pt x="876" y="654"/>
                        <a:pt x="795" y="653"/>
                        <a:pt x="714" y="648"/>
                      </a:cubicBezTo>
                      <a:cubicBezTo>
                        <a:pt x="688" y="646"/>
                        <a:pt x="682" y="632"/>
                        <a:pt x="660" y="621"/>
                      </a:cubicBezTo>
                      <a:cubicBezTo>
                        <a:pt x="592" y="587"/>
                        <a:pt x="526" y="556"/>
                        <a:pt x="462" y="513"/>
                      </a:cubicBezTo>
                      <a:cubicBezTo>
                        <a:pt x="411" y="479"/>
                        <a:pt x="376" y="458"/>
                        <a:pt x="318" y="441"/>
                      </a:cubicBezTo>
                      <a:cubicBezTo>
                        <a:pt x="288" y="433"/>
                        <a:pt x="237" y="396"/>
                        <a:pt x="237" y="396"/>
                      </a:cubicBezTo>
                      <a:cubicBezTo>
                        <a:pt x="201" y="342"/>
                        <a:pt x="136" y="332"/>
                        <a:pt x="84" y="297"/>
                      </a:cubicBezTo>
                      <a:cubicBezTo>
                        <a:pt x="71" y="278"/>
                        <a:pt x="52" y="262"/>
                        <a:pt x="39" y="243"/>
                      </a:cubicBezTo>
                      <a:cubicBezTo>
                        <a:pt x="28" y="226"/>
                        <a:pt x="23" y="206"/>
                        <a:pt x="12" y="189"/>
                      </a:cubicBezTo>
                      <a:cubicBezTo>
                        <a:pt x="0" y="141"/>
                        <a:pt x="0" y="165"/>
                        <a:pt x="12" y="117"/>
                      </a:cubicBezTo>
                      <a:close/>
                    </a:path>
                  </a:pathLst>
                </a:custGeom>
                <a:solidFill>
                  <a:srgbClr val="6666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25600" y="3757680"/>
                  <a:ext cx="2540160" cy="2743200"/>
                </a:xfrm>
                <a:custGeom>
                  <a:avLst/>
                  <a:gdLst/>
                  <a:ahLst/>
                  <a:rect l="l" t="t" r="r" b="b"/>
                  <a:pathLst>
                    <a:path w="1600" h="1728">
                      <a:moveTo>
                        <a:pt x="632" y="45"/>
                      </a:moveTo>
                      <a:cubicBezTo>
                        <a:pt x="667" y="57"/>
                        <a:pt x="680" y="84"/>
                        <a:pt x="713" y="99"/>
                      </a:cubicBezTo>
                      <a:cubicBezTo>
                        <a:pt x="730" y="107"/>
                        <a:pt x="751" y="106"/>
                        <a:pt x="767" y="117"/>
                      </a:cubicBezTo>
                      <a:cubicBezTo>
                        <a:pt x="837" y="164"/>
                        <a:pt x="800" y="146"/>
                        <a:pt x="875" y="171"/>
                      </a:cubicBezTo>
                      <a:cubicBezTo>
                        <a:pt x="947" y="195"/>
                        <a:pt x="879" y="181"/>
                        <a:pt x="938" y="207"/>
                      </a:cubicBezTo>
                      <a:cubicBezTo>
                        <a:pt x="985" y="228"/>
                        <a:pt x="1057" y="232"/>
                        <a:pt x="1100" y="261"/>
                      </a:cubicBezTo>
                      <a:cubicBezTo>
                        <a:pt x="1142" y="289"/>
                        <a:pt x="1190" y="310"/>
                        <a:pt x="1235" y="333"/>
                      </a:cubicBezTo>
                      <a:cubicBezTo>
                        <a:pt x="1261" y="346"/>
                        <a:pt x="1289" y="368"/>
                        <a:pt x="1316" y="378"/>
                      </a:cubicBezTo>
                      <a:cubicBezTo>
                        <a:pt x="1357" y="393"/>
                        <a:pt x="1401" y="400"/>
                        <a:pt x="1442" y="414"/>
                      </a:cubicBezTo>
                      <a:cubicBezTo>
                        <a:pt x="1463" y="421"/>
                        <a:pt x="1478" y="438"/>
                        <a:pt x="1496" y="450"/>
                      </a:cubicBezTo>
                      <a:cubicBezTo>
                        <a:pt x="1523" y="468"/>
                        <a:pt x="1550" y="477"/>
                        <a:pt x="1577" y="495"/>
                      </a:cubicBezTo>
                      <a:cubicBezTo>
                        <a:pt x="1583" y="504"/>
                        <a:pt x="1594" y="511"/>
                        <a:pt x="1595" y="522"/>
                      </a:cubicBezTo>
                      <a:cubicBezTo>
                        <a:pt x="1600" y="561"/>
                        <a:pt x="1568" y="621"/>
                        <a:pt x="1559" y="657"/>
                      </a:cubicBezTo>
                      <a:cubicBezTo>
                        <a:pt x="1543" y="720"/>
                        <a:pt x="1534" y="796"/>
                        <a:pt x="1505" y="855"/>
                      </a:cubicBezTo>
                      <a:cubicBezTo>
                        <a:pt x="1486" y="893"/>
                        <a:pt x="1468" y="934"/>
                        <a:pt x="1451" y="972"/>
                      </a:cubicBezTo>
                      <a:cubicBezTo>
                        <a:pt x="1424" y="1033"/>
                        <a:pt x="1419" y="1090"/>
                        <a:pt x="1379" y="1143"/>
                      </a:cubicBezTo>
                      <a:cubicBezTo>
                        <a:pt x="1369" y="1173"/>
                        <a:pt x="1343" y="1196"/>
                        <a:pt x="1334" y="1224"/>
                      </a:cubicBezTo>
                      <a:cubicBezTo>
                        <a:pt x="1309" y="1300"/>
                        <a:pt x="1258" y="1367"/>
                        <a:pt x="1226" y="1440"/>
                      </a:cubicBezTo>
                      <a:cubicBezTo>
                        <a:pt x="1209" y="1478"/>
                        <a:pt x="1205" y="1539"/>
                        <a:pt x="1181" y="1575"/>
                      </a:cubicBezTo>
                      <a:cubicBezTo>
                        <a:pt x="1165" y="1599"/>
                        <a:pt x="1148" y="1629"/>
                        <a:pt x="1136" y="1656"/>
                      </a:cubicBezTo>
                      <a:cubicBezTo>
                        <a:pt x="1104" y="1727"/>
                        <a:pt x="1140" y="1696"/>
                        <a:pt x="1091" y="1728"/>
                      </a:cubicBezTo>
                      <a:cubicBezTo>
                        <a:pt x="1066" y="1712"/>
                        <a:pt x="1015" y="1667"/>
                        <a:pt x="983" y="1656"/>
                      </a:cubicBezTo>
                      <a:cubicBezTo>
                        <a:pt x="936" y="1640"/>
                        <a:pt x="893" y="1613"/>
                        <a:pt x="848" y="1593"/>
                      </a:cubicBezTo>
                      <a:cubicBezTo>
                        <a:pt x="806" y="1574"/>
                        <a:pt x="757" y="1563"/>
                        <a:pt x="713" y="1548"/>
                      </a:cubicBezTo>
                      <a:cubicBezTo>
                        <a:pt x="703" y="1545"/>
                        <a:pt x="696" y="1534"/>
                        <a:pt x="686" y="1530"/>
                      </a:cubicBezTo>
                      <a:cubicBezTo>
                        <a:pt x="669" y="1522"/>
                        <a:pt x="648" y="1523"/>
                        <a:pt x="632" y="1512"/>
                      </a:cubicBezTo>
                      <a:cubicBezTo>
                        <a:pt x="623" y="1506"/>
                        <a:pt x="615" y="1499"/>
                        <a:pt x="605" y="1494"/>
                      </a:cubicBezTo>
                      <a:cubicBezTo>
                        <a:pt x="564" y="1474"/>
                        <a:pt x="522" y="1470"/>
                        <a:pt x="479" y="1458"/>
                      </a:cubicBezTo>
                      <a:cubicBezTo>
                        <a:pt x="449" y="1449"/>
                        <a:pt x="427" y="1432"/>
                        <a:pt x="398" y="1422"/>
                      </a:cubicBezTo>
                      <a:cubicBezTo>
                        <a:pt x="346" y="1345"/>
                        <a:pt x="415" y="1436"/>
                        <a:pt x="353" y="1386"/>
                      </a:cubicBezTo>
                      <a:cubicBezTo>
                        <a:pt x="295" y="1339"/>
                        <a:pt x="376" y="1373"/>
                        <a:pt x="308" y="1350"/>
                      </a:cubicBezTo>
                      <a:cubicBezTo>
                        <a:pt x="270" y="1293"/>
                        <a:pt x="217" y="1277"/>
                        <a:pt x="155" y="1260"/>
                      </a:cubicBezTo>
                      <a:cubicBezTo>
                        <a:pt x="137" y="1255"/>
                        <a:pt x="119" y="1248"/>
                        <a:pt x="101" y="1242"/>
                      </a:cubicBezTo>
                      <a:cubicBezTo>
                        <a:pt x="80" y="1235"/>
                        <a:pt x="47" y="1206"/>
                        <a:pt x="47" y="1206"/>
                      </a:cubicBezTo>
                      <a:cubicBezTo>
                        <a:pt x="35" y="1188"/>
                        <a:pt x="23" y="1170"/>
                        <a:pt x="11" y="1152"/>
                      </a:cubicBezTo>
                      <a:cubicBezTo>
                        <a:pt x="0" y="1136"/>
                        <a:pt x="23" y="1116"/>
                        <a:pt x="29" y="1098"/>
                      </a:cubicBezTo>
                      <a:cubicBezTo>
                        <a:pt x="48" y="1041"/>
                        <a:pt x="64" y="984"/>
                        <a:pt x="83" y="927"/>
                      </a:cubicBezTo>
                      <a:cubicBezTo>
                        <a:pt x="93" y="896"/>
                        <a:pt x="99" y="858"/>
                        <a:pt x="110" y="828"/>
                      </a:cubicBezTo>
                      <a:cubicBezTo>
                        <a:pt x="114" y="818"/>
                        <a:pt x="124" y="811"/>
                        <a:pt x="128" y="801"/>
                      </a:cubicBezTo>
                      <a:cubicBezTo>
                        <a:pt x="143" y="768"/>
                        <a:pt x="152" y="728"/>
                        <a:pt x="164" y="693"/>
                      </a:cubicBezTo>
                      <a:cubicBezTo>
                        <a:pt x="167" y="683"/>
                        <a:pt x="178" y="676"/>
                        <a:pt x="182" y="666"/>
                      </a:cubicBezTo>
                      <a:cubicBezTo>
                        <a:pt x="199" y="628"/>
                        <a:pt x="208" y="586"/>
                        <a:pt x="227" y="549"/>
                      </a:cubicBezTo>
                      <a:cubicBezTo>
                        <a:pt x="241" y="521"/>
                        <a:pt x="258" y="496"/>
                        <a:pt x="272" y="468"/>
                      </a:cubicBezTo>
                      <a:cubicBezTo>
                        <a:pt x="310" y="393"/>
                        <a:pt x="337" y="313"/>
                        <a:pt x="398" y="252"/>
                      </a:cubicBezTo>
                      <a:cubicBezTo>
                        <a:pt x="413" y="207"/>
                        <a:pt x="454" y="191"/>
                        <a:pt x="470" y="144"/>
                      </a:cubicBezTo>
                      <a:cubicBezTo>
                        <a:pt x="486" y="97"/>
                        <a:pt x="528" y="17"/>
                        <a:pt x="578" y="0"/>
                      </a:cubicBezTo>
                      <a:cubicBezTo>
                        <a:pt x="584" y="9"/>
                        <a:pt x="587" y="21"/>
                        <a:pt x="596" y="27"/>
                      </a:cubicBezTo>
                      <a:cubicBezTo>
                        <a:pt x="628" y="47"/>
                        <a:pt x="678" y="45"/>
                        <a:pt x="632" y="45"/>
                      </a:cubicBezTo>
                      <a:close/>
                    </a:path>
                  </a:pathLst>
                </a:custGeom>
                <a:solidFill>
                  <a:srgbClr val="6600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9080" y="2928960"/>
                  <a:ext cx="614520" cy="1128600"/>
                </a:xfrm>
                <a:custGeom>
                  <a:avLst/>
                  <a:gdLst/>
                  <a:ahLst/>
                  <a:rect l="l" t="t" r="r" b="b"/>
                  <a:pathLst>
                    <a:path w="387" h="711">
                      <a:moveTo>
                        <a:pt x="0" y="711"/>
                      </a:moveTo>
                      <a:cubicBezTo>
                        <a:pt x="13" y="672"/>
                        <a:pt x="38" y="640"/>
                        <a:pt x="54" y="603"/>
                      </a:cubicBezTo>
                      <a:cubicBezTo>
                        <a:pt x="62" y="586"/>
                        <a:pt x="61" y="565"/>
                        <a:pt x="72" y="549"/>
                      </a:cubicBezTo>
                      <a:cubicBezTo>
                        <a:pt x="90" y="522"/>
                        <a:pt x="116" y="499"/>
                        <a:pt x="126" y="468"/>
                      </a:cubicBezTo>
                      <a:cubicBezTo>
                        <a:pt x="143" y="418"/>
                        <a:pt x="178" y="377"/>
                        <a:pt x="207" y="333"/>
                      </a:cubicBezTo>
                      <a:cubicBezTo>
                        <a:pt x="237" y="288"/>
                        <a:pt x="258" y="243"/>
                        <a:pt x="288" y="198"/>
                      </a:cubicBezTo>
                      <a:cubicBezTo>
                        <a:pt x="293" y="190"/>
                        <a:pt x="293" y="179"/>
                        <a:pt x="297" y="171"/>
                      </a:cubicBezTo>
                      <a:cubicBezTo>
                        <a:pt x="311" y="144"/>
                        <a:pt x="330" y="118"/>
                        <a:pt x="342" y="90"/>
                      </a:cubicBezTo>
                      <a:cubicBezTo>
                        <a:pt x="360" y="49"/>
                        <a:pt x="356" y="31"/>
                        <a:pt x="387" y="0"/>
                      </a:cubicBezTo>
                    </a:path>
                  </a:pathLst>
                </a:custGeom>
                <a:noFill/>
                <a:ln w="7632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54680" y="1743120"/>
                  <a:ext cx="760320" cy="1380960"/>
                </a:xfrm>
                <a:custGeom>
                  <a:avLst/>
                  <a:gdLst/>
                  <a:ahLst/>
                  <a:rect l="l" t="t" r="r" b="b"/>
                  <a:pathLst>
                    <a:path w="479" h="870">
                      <a:moveTo>
                        <a:pt x="20" y="819"/>
                      </a:moveTo>
                      <a:cubicBezTo>
                        <a:pt x="53" y="721"/>
                        <a:pt x="0" y="870"/>
                        <a:pt x="47" y="765"/>
                      </a:cubicBezTo>
                      <a:cubicBezTo>
                        <a:pt x="55" y="748"/>
                        <a:pt x="59" y="729"/>
                        <a:pt x="65" y="711"/>
                      </a:cubicBezTo>
                      <a:cubicBezTo>
                        <a:pt x="68" y="701"/>
                        <a:pt x="79" y="694"/>
                        <a:pt x="83" y="684"/>
                      </a:cubicBezTo>
                      <a:cubicBezTo>
                        <a:pt x="91" y="667"/>
                        <a:pt x="90" y="646"/>
                        <a:pt x="101" y="630"/>
                      </a:cubicBezTo>
                      <a:cubicBezTo>
                        <a:pt x="131" y="585"/>
                        <a:pt x="161" y="540"/>
                        <a:pt x="191" y="495"/>
                      </a:cubicBezTo>
                      <a:cubicBezTo>
                        <a:pt x="203" y="477"/>
                        <a:pt x="220" y="462"/>
                        <a:pt x="227" y="441"/>
                      </a:cubicBezTo>
                      <a:cubicBezTo>
                        <a:pt x="230" y="432"/>
                        <a:pt x="231" y="422"/>
                        <a:pt x="236" y="414"/>
                      </a:cubicBezTo>
                      <a:cubicBezTo>
                        <a:pt x="262" y="368"/>
                        <a:pt x="296" y="323"/>
                        <a:pt x="326" y="279"/>
                      </a:cubicBezTo>
                      <a:cubicBezTo>
                        <a:pt x="338" y="261"/>
                        <a:pt x="355" y="246"/>
                        <a:pt x="362" y="225"/>
                      </a:cubicBezTo>
                      <a:cubicBezTo>
                        <a:pt x="395" y="127"/>
                        <a:pt x="342" y="276"/>
                        <a:pt x="389" y="171"/>
                      </a:cubicBezTo>
                      <a:cubicBezTo>
                        <a:pt x="416" y="111"/>
                        <a:pt x="431" y="48"/>
                        <a:pt x="479" y="0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600880" y="506520"/>
                  <a:ext cx="833400" cy="1465200"/>
                </a:xfrm>
                <a:custGeom>
                  <a:avLst/>
                  <a:gdLst/>
                  <a:ahLst/>
                  <a:rect l="l" t="t" r="r" b="b"/>
                  <a:pathLst>
                    <a:path w="525" h="923">
                      <a:moveTo>
                        <a:pt x="0" y="923"/>
                      </a:moveTo>
                      <a:cubicBezTo>
                        <a:pt x="28" y="882"/>
                        <a:pt x="47" y="835"/>
                        <a:pt x="63" y="788"/>
                      </a:cubicBezTo>
                      <a:cubicBezTo>
                        <a:pt x="72" y="761"/>
                        <a:pt x="96" y="733"/>
                        <a:pt x="108" y="707"/>
                      </a:cubicBezTo>
                      <a:cubicBezTo>
                        <a:pt x="135" y="646"/>
                        <a:pt x="150" y="565"/>
                        <a:pt x="207" y="527"/>
                      </a:cubicBezTo>
                      <a:cubicBezTo>
                        <a:pt x="216" y="500"/>
                        <a:pt x="229" y="471"/>
                        <a:pt x="243" y="446"/>
                      </a:cubicBezTo>
                      <a:cubicBezTo>
                        <a:pt x="254" y="427"/>
                        <a:pt x="272" y="413"/>
                        <a:pt x="279" y="392"/>
                      </a:cubicBezTo>
                      <a:cubicBezTo>
                        <a:pt x="294" y="348"/>
                        <a:pt x="319" y="316"/>
                        <a:pt x="351" y="284"/>
                      </a:cubicBezTo>
                      <a:cubicBezTo>
                        <a:pt x="367" y="235"/>
                        <a:pt x="402" y="196"/>
                        <a:pt x="423" y="149"/>
                      </a:cubicBezTo>
                      <a:cubicBezTo>
                        <a:pt x="431" y="132"/>
                        <a:pt x="430" y="111"/>
                        <a:pt x="441" y="95"/>
                      </a:cubicBezTo>
                      <a:cubicBezTo>
                        <a:pt x="453" y="77"/>
                        <a:pt x="477" y="41"/>
                        <a:pt x="477" y="41"/>
                      </a:cubicBezTo>
                      <a:cubicBezTo>
                        <a:pt x="468" y="38"/>
                        <a:pt x="454" y="40"/>
                        <a:pt x="450" y="32"/>
                      </a:cubicBezTo>
                      <a:cubicBezTo>
                        <a:pt x="446" y="24"/>
                        <a:pt x="450" y="8"/>
                        <a:pt x="459" y="5"/>
                      </a:cubicBezTo>
                      <a:cubicBezTo>
                        <a:pt x="474" y="0"/>
                        <a:pt x="489" y="11"/>
                        <a:pt x="504" y="14"/>
                      </a:cubicBezTo>
                      <a:cubicBezTo>
                        <a:pt x="507" y="22"/>
                        <a:pt x="525" y="60"/>
                        <a:pt x="504" y="68"/>
                      </a:cubicBezTo>
                      <a:cubicBezTo>
                        <a:pt x="465" y="84"/>
                        <a:pt x="468" y="65"/>
                        <a:pt x="468" y="50"/>
                      </a:cubicBezTo>
                    </a:path>
                  </a:pathLst>
                </a:custGeom>
                <a:solidFill>
                  <a:srgbClr val="3333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71960" y="29005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0"/>
                      </a:moveTo>
                      <a:cubicBezTo>
                        <a:pt x="24" y="8"/>
                        <a:pt x="62" y="27"/>
                        <a:pt x="90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53080" y="1709640"/>
                  <a:ext cx="128520" cy="42840"/>
                </a:xfrm>
                <a:custGeom>
                  <a:avLst/>
                  <a:gdLst/>
                  <a:ahLst/>
                  <a:rect l="l" t="t" r="r" b="b"/>
                  <a:pathLst>
                    <a:path w="81" h="27">
                      <a:moveTo>
                        <a:pt x="0" y="0"/>
                      </a:moveTo>
                      <a:cubicBezTo>
                        <a:pt x="29" y="20"/>
                        <a:pt x="46" y="27"/>
                        <a:pt x="81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0482800">
                  <a:off x="6281640" y="528120"/>
                  <a:ext cx="171720" cy="114480"/>
                </a:xfrm>
                <a:custGeom>
                  <a:avLst/>
                  <a:gdLst/>
                  <a:ahLst/>
                  <a:rect l="l" t="t" r="r" b="b"/>
                  <a:pathLst>
                    <a:path w="108" h="72">
                      <a:moveTo>
                        <a:pt x="0" y="0"/>
                      </a:moveTo>
                      <a:cubicBezTo>
                        <a:pt x="20" y="61"/>
                        <a:pt x="46" y="72"/>
                        <a:pt x="108" y="7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00640" y="3881520"/>
                  <a:ext cx="142920" cy="185760"/>
                </a:xfrm>
                <a:custGeom>
                  <a:avLst/>
                  <a:gdLst/>
                  <a:ahLst/>
                  <a:rect l="l" t="t" r="r" b="b"/>
                  <a:pathLst>
                    <a:path w="93" h="105">
                      <a:moveTo>
                        <a:pt x="45" y="0"/>
                      </a:moveTo>
                      <a:cubicBezTo>
                        <a:pt x="38" y="20"/>
                        <a:pt x="26" y="35"/>
                        <a:pt x="18" y="54"/>
                      </a:cubicBezTo>
                      <a:cubicBezTo>
                        <a:pt x="15" y="60"/>
                        <a:pt x="16" y="67"/>
                        <a:pt x="12" y="72"/>
                      </a:cubicBezTo>
                      <a:cubicBezTo>
                        <a:pt x="8" y="78"/>
                        <a:pt x="0" y="90"/>
                        <a:pt x="0" y="90"/>
                      </a:cubicBezTo>
                      <a:cubicBezTo>
                        <a:pt x="2" y="93"/>
                        <a:pt x="3" y="97"/>
                        <a:pt x="6" y="99"/>
                      </a:cubicBezTo>
                      <a:cubicBezTo>
                        <a:pt x="11" y="102"/>
                        <a:pt x="24" y="105"/>
                        <a:pt x="24" y="105"/>
                      </a:cubicBezTo>
                      <a:cubicBezTo>
                        <a:pt x="31" y="104"/>
                        <a:pt x="38" y="105"/>
                        <a:pt x="45" y="102"/>
                      </a:cubicBezTo>
                      <a:cubicBezTo>
                        <a:pt x="56" y="97"/>
                        <a:pt x="53" y="92"/>
                        <a:pt x="57" y="84"/>
                      </a:cubicBezTo>
                      <a:cubicBezTo>
                        <a:pt x="70" y="61"/>
                        <a:pt x="81" y="38"/>
                        <a:pt x="93" y="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 rot="150600">
                <a:off x="2876040" y="3933360"/>
                <a:ext cx="1067040" cy="1028880"/>
              </a:xfrm>
              <a:custGeom>
                <a:avLst/>
                <a:gdLst/>
                <a:ahLst/>
                <a:rect l="l" t="t" r="r" b="b"/>
                <a:pathLst>
                  <a:path w="618" h="612">
                    <a:moveTo>
                      <a:pt x="210" y="12"/>
                    </a:moveTo>
                    <a:cubicBezTo>
                      <a:pt x="241" y="22"/>
                      <a:pt x="257" y="43"/>
                      <a:pt x="282" y="60"/>
                    </a:cubicBezTo>
                    <a:cubicBezTo>
                      <a:pt x="313" y="80"/>
                      <a:pt x="353" y="79"/>
                      <a:pt x="384" y="96"/>
                    </a:cubicBezTo>
                    <a:cubicBezTo>
                      <a:pt x="415" y="113"/>
                      <a:pt x="444" y="136"/>
                      <a:pt x="474" y="156"/>
                    </a:cubicBezTo>
                    <a:cubicBezTo>
                      <a:pt x="497" y="172"/>
                      <a:pt x="521" y="187"/>
                      <a:pt x="546" y="198"/>
                    </a:cubicBezTo>
                    <a:cubicBezTo>
                      <a:pt x="558" y="203"/>
                      <a:pt x="570" y="206"/>
                      <a:pt x="582" y="210"/>
                    </a:cubicBezTo>
                    <a:cubicBezTo>
                      <a:pt x="588" y="212"/>
                      <a:pt x="600" y="216"/>
                      <a:pt x="600" y="216"/>
                    </a:cubicBezTo>
                    <a:cubicBezTo>
                      <a:pt x="618" y="271"/>
                      <a:pt x="567" y="296"/>
                      <a:pt x="552" y="342"/>
                    </a:cubicBezTo>
                    <a:cubicBezTo>
                      <a:pt x="546" y="360"/>
                      <a:pt x="537" y="380"/>
                      <a:pt x="528" y="396"/>
                    </a:cubicBezTo>
                    <a:cubicBezTo>
                      <a:pt x="521" y="409"/>
                      <a:pt x="509" y="418"/>
                      <a:pt x="504" y="432"/>
                    </a:cubicBezTo>
                    <a:cubicBezTo>
                      <a:pt x="483" y="494"/>
                      <a:pt x="456" y="558"/>
                      <a:pt x="420" y="612"/>
                    </a:cubicBezTo>
                    <a:cubicBezTo>
                      <a:pt x="369" y="602"/>
                      <a:pt x="342" y="568"/>
                      <a:pt x="300" y="540"/>
                    </a:cubicBezTo>
                    <a:cubicBezTo>
                      <a:pt x="274" y="522"/>
                      <a:pt x="209" y="510"/>
                      <a:pt x="174" y="492"/>
                    </a:cubicBezTo>
                    <a:cubicBezTo>
                      <a:pt x="149" y="480"/>
                      <a:pt x="126" y="466"/>
                      <a:pt x="102" y="450"/>
                    </a:cubicBezTo>
                    <a:cubicBezTo>
                      <a:pt x="91" y="443"/>
                      <a:pt x="78" y="442"/>
                      <a:pt x="66" y="438"/>
                    </a:cubicBezTo>
                    <a:cubicBezTo>
                      <a:pt x="60" y="436"/>
                      <a:pt x="48" y="432"/>
                      <a:pt x="48" y="432"/>
                    </a:cubicBezTo>
                    <a:cubicBezTo>
                      <a:pt x="44" y="426"/>
                      <a:pt x="42" y="418"/>
                      <a:pt x="36" y="414"/>
                    </a:cubicBezTo>
                    <a:cubicBezTo>
                      <a:pt x="25" y="407"/>
                      <a:pt x="0" y="402"/>
                      <a:pt x="0" y="402"/>
                    </a:cubicBezTo>
                    <a:cubicBezTo>
                      <a:pt x="6" y="350"/>
                      <a:pt x="6" y="330"/>
                      <a:pt x="42" y="294"/>
                    </a:cubicBezTo>
                    <a:cubicBezTo>
                      <a:pt x="64" y="228"/>
                      <a:pt x="87" y="172"/>
                      <a:pt x="126" y="114"/>
                    </a:cubicBezTo>
                    <a:cubicBezTo>
                      <a:pt x="133" y="103"/>
                      <a:pt x="131" y="89"/>
                      <a:pt x="138" y="78"/>
                    </a:cubicBezTo>
                    <a:cubicBezTo>
                      <a:pt x="155" y="52"/>
                      <a:pt x="168" y="10"/>
                      <a:pt x="198" y="0"/>
                    </a:cubicBezTo>
                    <a:cubicBezTo>
                      <a:pt x="211" y="20"/>
                      <a:pt x="248" y="37"/>
                      <a:pt x="210" y="12"/>
                    </a:cubicBezTo>
                    <a:close/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498200">
                <a:off x="3664440" y="59256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725640" y="5564160"/>
                <a:ext cx="370080" cy="504360"/>
                <a:chOff x="3725640" y="5564160"/>
                <a:chExt cx="370080" cy="504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76840" y="556416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28000">
                  <a:off x="3762360" y="578160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rot="1498200">
                <a:off x="3902760" y="5420880"/>
                <a:ext cx="42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498200">
                <a:off x="3447000" y="5211720"/>
                <a:ext cx="47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498200">
                <a:off x="3103200" y="5716080"/>
                <a:ext cx="63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R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498200">
                <a:off x="2667960" y="5344560"/>
                <a:ext cx="45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296880" y="5354640"/>
                <a:ext cx="370080" cy="504360"/>
                <a:chOff x="3296880" y="5354640"/>
                <a:chExt cx="370080" cy="504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48080" y="535464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28000">
                  <a:off x="3333600" y="557208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3089160" y="4105440"/>
                <a:ext cx="425520" cy="599760"/>
              </a:xfrm>
              <a:custGeom>
                <a:avLst/>
                <a:gdLst/>
                <a:ahLst/>
                <a:rect l="l" t="t" r="r" b="b"/>
                <a:pathLst>
                  <a:path w="268" h="378">
                    <a:moveTo>
                      <a:pt x="136" y="0"/>
                    </a:moveTo>
                    <a:cubicBezTo>
                      <a:pt x="112" y="24"/>
                      <a:pt x="75" y="56"/>
                      <a:pt x="64" y="90"/>
                    </a:cubicBezTo>
                    <a:cubicBezTo>
                      <a:pt x="56" y="115"/>
                      <a:pt x="47" y="139"/>
                      <a:pt x="34" y="162"/>
                    </a:cubicBezTo>
                    <a:cubicBezTo>
                      <a:pt x="0" y="224"/>
                      <a:pt x="18" y="175"/>
                      <a:pt x="4" y="216"/>
                    </a:cubicBezTo>
                    <a:cubicBezTo>
                      <a:pt x="19" y="274"/>
                      <a:pt x="103" y="316"/>
                      <a:pt x="154" y="342"/>
                    </a:cubicBezTo>
                    <a:cubicBezTo>
                      <a:pt x="211" y="371"/>
                      <a:pt x="115" y="335"/>
                      <a:pt x="208" y="366"/>
                    </a:cubicBezTo>
                    <a:cubicBezTo>
                      <a:pt x="220" y="370"/>
                      <a:pt x="244" y="378"/>
                      <a:pt x="244" y="378"/>
                    </a:cubicBezTo>
                    <a:cubicBezTo>
                      <a:pt x="240" y="356"/>
                      <a:pt x="239" y="323"/>
                      <a:pt x="220" y="306"/>
                    </a:cubicBezTo>
                    <a:cubicBezTo>
                      <a:pt x="209" y="297"/>
                      <a:pt x="184" y="282"/>
                      <a:pt x="184" y="282"/>
                    </a:cubicBezTo>
                    <a:cubicBezTo>
                      <a:pt x="173" y="249"/>
                      <a:pt x="142" y="227"/>
                      <a:pt x="130" y="192"/>
                    </a:cubicBezTo>
                    <a:cubicBezTo>
                      <a:pt x="158" y="173"/>
                      <a:pt x="189" y="178"/>
                      <a:pt x="220" y="168"/>
                    </a:cubicBezTo>
                    <a:cubicBezTo>
                      <a:pt x="218" y="196"/>
                      <a:pt x="222" y="225"/>
                      <a:pt x="214" y="252"/>
                    </a:cubicBezTo>
                    <a:cubicBezTo>
                      <a:pt x="205" y="282"/>
                      <a:pt x="192" y="234"/>
                      <a:pt x="190" y="228"/>
                    </a:cubicBezTo>
                    <a:cubicBezTo>
                      <a:pt x="215" y="220"/>
                      <a:pt x="268" y="216"/>
                      <a:pt x="268" y="21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81480" y="4238640"/>
                <a:ext cx="230040" cy="2761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0" y="0"/>
                    </a:moveTo>
                    <a:cubicBezTo>
                      <a:pt x="18" y="28"/>
                      <a:pt x="53" y="38"/>
                      <a:pt x="84" y="48"/>
                    </a:cubicBezTo>
                    <a:cubicBezTo>
                      <a:pt x="109" y="56"/>
                      <a:pt x="130" y="75"/>
                      <a:pt x="156" y="84"/>
                    </a:cubicBezTo>
                    <a:cubicBezTo>
                      <a:pt x="175" y="113"/>
                      <a:pt x="170" y="95"/>
                      <a:pt x="156" y="138"/>
                    </a:cubicBezTo>
                    <a:cubicBezTo>
                      <a:pt x="154" y="145"/>
                      <a:pt x="147" y="150"/>
                      <a:pt x="144" y="156"/>
                    </a:cubicBezTo>
                    <a:cubicBezTo>
                      <a:pt x="141" y="162"/>
                      <a:pt x="138" y="174"/>
                      <a:pt x="138" y="17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24320" y="4905360"/>
                <a:ext cx="139680" cy="13824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24320" y="493884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71880" y="475308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71880" y="478620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27440" y="4933800"/>
              <a:ext cx="411120" cy="385560"/>
              <a:chOff x="2827440" y="4933800"/>
              <a:chExt cx="411120" cy="385560"/>
            </a:xfrm>
          </p:grpSpPr>
          <p:sp>
            <p:nvSpPr>
              <p:cNvPr id="379" name=""/>
              <p:cNvSpPr/>
              <p:nvPr/>
            </p:nvSpPr>
            <p:spPr>
              <a:xfrm>
                <a:off x="2928960" y="4933800"/>
                <a:ext cx="309600" cy="385560"/>
              </a:xfrm>
              <a:custGeom>
                <a:avLst/>
                <a:gdLst/>
                <a:ahLst/>
                <a:rect l="l" t="t" r="r" b="b"/>
                <a:pathLst>
                  <a:path w="195" h="243">
                    <a:moveTo>
                      <a:pt x="0" y="45"/>
                    </a:moveTo>
                    <a:cubicBezTo>
                      <a:pt x="18" y="39"/>
                      <a:pt x="36" y="33"/>
                      <a:pt x="54" y="27"/>
                    </a:cubicBezTo>
                    <a:cubicBezTo>
                      <a:pt x="63" y="24"/>
                      <a:pt x="81" y="18"/>
                      <a:pt x="81" y="18"/>
                    </a:cubicBezTo>
                    <a:cubicBezTo>
                      <a:pt x="138" y="32"/>
                      <a:pt x="57" y="0"/>
                      <a:pt x="153" y="36"/>
                    </a:cubicBezTo>
                    <a:cubicBezTo>
                      <a:pt x="159" y="45"/>
                      <a:pt x="195" y="132"/>
                      <a:pt x="195" y="132"/>
                    </a:cubicBezTo>
                    <a:cubicBezTo>
                      <a:pt x="192" y="165"/>
                      <a:pt x="178" y="178"/>
                      <a:pt x="162" y="207"/>
                    </a:cubicBezTo>
                    <a:cubicBezTo>
                      <a:pt x="149" y="232"/>
                      <a:pt x="109" y="229"/>
                      <a:pt x="81" y="234"/>
                    </a:cubicBezTo>
                    <a:cubicBezTo>
                      <a:pt x="63" y="237"/>
                      <a:pt x="27" y="243"/>
                      <a:pt x="27" y="243"/>
                    </a:cubicBezTo>
                  </a:path>
                </a:pathLst>
              </a:custGeom>
              <a:solidFill>
                <a:srgbClr val="99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27440" y="5005080"/>
                <a:ext cx="320760" cy="301680"/>
              </a:xfrm>
              <a:custGeom>
                <a:avLst/>
                <a:gdLst/>
                <a:ahLst/>
                <a:rect l="l" t="t" r="r" b="b"/>
                <a:pathLst>
                  <a:path w="202" h="190">
                    <a:moveTo>
                      <a:pt x="130" y="18"/>
                    </a:moveTo>
                    <a:cubicBezTo>
                      <a:pt x="96" y="10"/>
                      <a:pt x="77" y="0"/>
                      <a:pt x="40" y="18"/>
                    </a:cubicBezTo>
                    <a:cubicBezTo>
                      <a:pt x="14" y="31"/>
                      <a:pt x="4" y="99"/>
                      <a:pt x="4" y="99"/>
                    </a:cubicBezTo>
                    <a:cubicBezTo>
                      <a:pt x="7" y="120"/>
                      <a:pt x="0" y="145"/>
                      <a:pt x="13" y="162"/>
                    </a:cubicBezTo>
                    <a:cubicBezTo>
                      <a:pt x="25" y="177"/>
                      <a:pt x="49" y="174"/>
                      <a:pt x="67" y="180"/>
                    </a:cubicBezTo>
                    <a:cubicBezTo>
                      <a:pt x="76" y="183"/>
                      <a:pt x="94" y="189"/>
                      <a:pt x="94" y="189"/>
                    </a:cubicBezTo>
                    <a:cubicBezTo>
                      <a:pt x="118" y="186"/>
                      <a:pt x="144" y="190"/>
                      <a:pt x="166" y="180"/>
                    </a:cubicBezTo>
                    <a:cubicBezTo>
                      <a:pt x="175" y="176"/>
                      <a:pt x="199" y="108"/>
                      <a:pt x="199" y="99"/>
                    </a:cubicBezTo>
                    <a:cubicBezTo>
                      <a:pt x="157" y="39"/>
                      <a:pt x="202" y="18"/>
                      <a:pt x="130" y="18"/>
                    </a:cubicBezTo>
                    <a:close/>
                  </a:path>
                </a:pathLst>
              </a:custGeom>
              <a:solidFill>
                <a:srgbClr val="ff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40464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34280" y="331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793600">
            <a:off x="6781680" y="55728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66960" y="4933800"/>
            <a:ext cx="471600" cy="460440"/>
            <a:chOff x="2766960" y="4933800"/>
            <a:chExt cx="471600" cy="460440"/>
          </a:xfrm>
        </p:grpSpPr>
        <p:sp>
          <p:nvSpPr>
            <p:cNvPr id="387" name=""/>
            <p:cNvSpPr/>
            <p:nvPr/>
          </p:nvSpPr>
          <p:spPr>
            <a:xfrm>
              <a:off x="2928960" y="4933800"/>
              <a:ext cx="309600" cy="385920"/>
            </a:xfrm>
            <a:custGeom>
              <a:avLst/>
              <a:gdLst/>
              <a:ahLst/>
              <a:rect l="l" t="t" r="r" b="b"/>
              <a:pathLst>
                <a:path w="195" h="243">
                  <a:moveTo>
                    <a:pt x="0" y="45"/>
                  </a:moveTo>
                  <a:cubicBezTo>
                    <a:pt x="18" y="39"/>
                    <a:pt x="36" y="33"/>
                    <a:pt x="54" y="27"/>
                  </a:cubicBezTo>
                  <a:cubicBezTo>
                    <a:pt x="63" y="24"/>
                    <a:pt x="81" y="18"/>
                    <a:pt x="81" y="18"/>
                  </a:cubicBezTo>
                  <a:cubicBezTo>
                    <a:pt x="138" y="32"/>
                    <a:pt x="57" y="0"/>
                    <a:pt x="153" y="36"/>
                  </a:cubicBezTo>
                  <a:cubicBezTo>
                    <a:pt x="159" y="45"/>
                    <a:pt x="195" y="132"/>
                    <a:pt x="195" y="132"/>
                  </a:cubicBezTo>
                  <a:cubicBezTo>
                    <a:pt x="192" y="165"/>
                    <a:pt x="178" y="178"/>
                    <a:pt x="162" y="207"/>
                  </a:cubicBezTo>
                  <a:cubicBezTo>
                    <a:pt x="149" y="232"/>
                    <a:pt x="109" y="229"/>
                    <a:pt x="81" y="234"/>
                  </a:cubicBezTo>
                  <a:cubicBezTo>
                    <a:pt x="63" y="237"/>
                    <a:pt x="27" y="243"/>
                    <a:pt x="27" y="243"/>
                  </a:cubicBezTo>
                </a:path>
              </a:pathLst>
            </a:custGeom>
            <a:solidFill>
              <a:srgbClr val="99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6960" y="4943520"/>
              <a:ext cx="357120" cy="450720"/>
            </a:xfrm>
            <a:custGeom>
              <a:avLst/>
              <a:gdLst/>
              <a:ahLst/>
              <a:rect l="l" t="t" r="r" b="b"/>
              <a:pathLst>
                <a:path w="225" h="284">
                  <a:moveTo>
                    <a:pt x="225" y="255"/>
                  </a:moveTo>
                  <a:cubicBezTo>
                    <a:pt x="219" y="237"/>
                    <a:pt x="208" y="219"/>
                    <a:pt x="204" y="201"/>
                  </a:cubicBezTo>
                  <a:cubicBezTo>
                    <a:pt x="200" y="184"/>
                    <a:pt x="199" y="161"/>
                    <a:pt x="189" y="147"/>
                  </a:cubicBezTo>
                  <a:cubicBezTo>
                    <a:pt x="181" y="135"/>
                    <a:pt x="174" y="124"/>
                    <a:pt x="168" y="111"/>
                  </a:cubicBezTo>
                  <a:cubicBezTo>
                    <a:pt x="158" y="89"/>
                    <a:pt x="159" y="65"/>
                    <a:pt x="138" y="51"/>
                  </a:cubicBezTo>
                  <a:cubicBezTo>
                    <a:pt x="132" y="32"/>
                    <a:pt x="125" y="11"/>
                    <a:pt x="108" y="0"/>
                  </a:cubicBezTo>
                  <a:cubicBezTo>
                    <a:pt x="52" y="3"/>
                    <a:pt x="71" y="1"/>
                    <a:pt x="39" y="12"/>
                  </a:cubicBezTo>
                  <a:cubicBezTo>
                    <a:pt x="34" y="27"/>
                    <a:pt x="25" y="36"/>
                    <a:pt x="12" y="45"/>
                  </a:cubicBezTo>
                  <a:cubicBezTo>
                    <a:pt x="0" y="63"/>
                    <a:pt x="11" y="85"/>
                    <a:pt x="21" y="102"/>
                  </a:cubicBezTo>
                  <a:cubicBezTo>
                    <a:pt x="34" y="125"/>
                    <a:pt x="46" y="156"/>
                    <a:pt x="63" y="177"/>
                  </a:cubicBezTo>
                  <a:cubicBezTo>
                    <a:pt x="76" y="192"/>
                    <a:pt x="94" y="209"/>
                    <a:pt x="105" y="225"/>
                  </a:cubicBezTo>
                  <a:cubicBezTo>
                    <a:pt x="119" y="246"/>
                    <a:pt x="111" y="239"/>
                    <a:pt x="126" y="249"/>
                  </a:cubicBezTo>
                  <a:cubicBezTo>
                    <a:pt x="138" y="267"/>
                    <a:pt x="159" y="273"/>
                    <a:pt x="180" y="276"/>
                  </a:cubicBezTo>
                  <a:cubicBezTo>
                    <a:pt x="217" y="273"/>
                    <a:pt x="225" y="284"/>
                    <a:pt x="225" y="255"/>
                  </a:cubicBez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74960" y="4986360"/>
              <a:ext cx="320760" cy="301680"/>
            </a:xfrm>
            <a:custGeom>
              <a:avLst/>
              <a:gdLst/>
              <a:ahLst/>
              <a:rect l="l" t="t" r="r" b="b"/>
              <a:pathLst>
                <a:path w="202" h="190">
                  <a:moveTo>
                    <a:pt x="130" y="18"/>
                  </a:moveTo>
                  <a:cubicBezTo>
                    <a:pt x="96" y="10"/>
                    <a:pt x="77" y="0"/>
                    <a:pt x="40" y="18"/>
                  </a:cubicBezTo>
                  <a:cubicBezTo>
                    <a:pt x="14" y="31"/>
                    <a:pt x="4" y="99"/>
                    <a:pt x="4" y="99"/>
                  </a:cubicBezTo>
                  <a:cubicBezTo>
                    <a:pt x="7" y="120"/>
                    <a:pt x="0" y="145"/>
                    <a:pt x="13" y="162"/>
                  </a:cubicBezTo>
                  <a:cubicBezTo>
                    <a:pt x="25" y="177"/>
                    <a:pt x="49" y="174"/>
                    <a:pt x="67" y="180"/>
                  </a:cubicBezTo>
                  <a:cubicBezTo>
                    <a:pt x="76" y="183"/>
                    <a:pt x="94" y="189"/>
                    <a:pt x="94" y="189"/>
                  </a:cubicBezTo>
                  <a:cubicBezTo>
                    <a:pt x="118" y="186"/>
                    <a:pt x="144" y="190"/>
                    <a:pt x="166" y="180"/>
                  </a:cubicBezTo>
                  <a:cubicBezTo>
                    <a:pt x="175" y="176"/>
                    <a:pt x="199" y="108"/>
                    <a:pt x="199" y="99"/>
                  </a:cubicBezTo>
                  <a:cubicBezTo>
                    <a:pt x="157" y="39"/>
                    <a:pt x="202" y="18"/>
                    <a:pt x="130" y="18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514440" y="5092920"/>
            <a:ext cx="3847320" cy="2584080"/>
            <a:chOff x="-514440" y="5092920"/>
            <a:chExt cx="3847320" cy="2584080"/>
          </a:xfrm>
        </p:grpSpPr>
        <p:sp>
          <p:nvSpPr>
            <p:cNvPr id="391" name=""/>
            <p:cNvSpPr/>
            <p:nvPr/>
          </p:nvSpPr>
          <p:spPr>
            <a:xfrm rot="21091200">
              <a:off x="3240" y="5318280"/>
              <a:ext cx="3203640" cy="1942920"/>
            </a:xfrm>
            <a:custGeom>
              <a:avLst/>
              <a:gdLst/>
              <a:ahLst/>
              <a:rect l="l" t="t" r="r" b="b"/>
              <a:pathLst>
                <a:path w="2018" h="1224">
                  <a:moveTo>
                    <a:pt x="0" y="729"/>
                  </a:moveTo>
                  <a:cubicBezTo>
                    <a:pt x="29" y="719"/>
                    <a:pt x="259" y="613"/>
                    <a:pt x="288" y="603"/>
                  </a:cubicBezTo>
                  <a:cubicBezTo>
                    <a:pt x="326" y="565"/>
                    <a:pt x="373" y="557"/>
                    <a:pt x="423" y="540"/>
                  </a:cubicBezTo>
                  <a:cubicBezTo>
                    <a:pt x="525" y="506"/>
                    <a:pt x="628" y="484"/>
                    <a:pt x="729" y="450"/>
                  </a:cubicBezTo>
                  <a:cubicBezTo>
                    <a:pt x="827" y="417"/>
                    <a:pt x="678" y="470"/>
                    <a:pt x="783" y="423"/>
                  </a:cubicBezTo>
                  <a:cubicBezTo>
                    <a:pt x="820" y="407"/>
                    <a:pt x="856" y="397"/>
                    <a:pt x="891" y="378"/>
                  </a:cubicBezTo>
                  <a:cubicBezTo>
                    <a:pt x="910" y="367"/>
                    <a:pt x="945" y="342"/>
                    <a:pt x="945" y="342"/>
                  </a:cubicBezTo>
                  <a:cubicBezTo>
                    <a:pt x="993" y="270"/>
                    <a:pt x="930" y="357"/>
                    <a:pt x="990" y="297"/>
                  </a:cubicBezTo>
                  <a:cubicBezTo>
                    <a:pt x="1020" y="233"/>
                    <a:pt x="988" y="287"/>
                    <a:pt x="1017" y="243"/>
                  </a:cubicBezTo>
                  <a:cubicBezTo>
                    <a:pt x="1024" y="232"/>
                    <a:pt x="1035" y="225"/>
                    <a:pt x="1044" y="216"/>
                  </a:cubicBezTo>
                  <a:cubicBezTo>
                    <a:pt x="1118" y="167"/>
                    <a:pt x="1220" y="63"/>
                    <a:pt x="1096" y="171"/>
                  </a:cubicBezTo>
                  <a:cubicBezTo>
                    <a:pt x="1101" y="163"/>
                    <a:pt x="1163" y="136"/>
                    <a:pt x="1170" y="129"/>
                  </a:cubicBezTo>
                  <a:cubicBezTo>
                    <a:pt x="1197" y="102"/>
                    <a:pt x="1239" y="89"/>
                    <a:pt x="1276" y="77"/>
                  </a:cubicBezTo>
                  <a:cubicBezTo>
                    <a:pt x="1363" y="80"/>
                    <a:pt x="1406" y="76"/>
                    <a:pt x="1492" y="87"/>
                  </a:cubicBezTo>
                  <a:cubicBezTo>
                    <a:pt x="1544" y="127"/>
                    <a:pt x="1490" y="161"/>
                    <a:pt x="1482" y="171"/>
                  </a:cubicBezTo>
                  <a:cubicBezTo>
                    <a:pt x="1450" y="211"/>
                    <a:pt x="1386" y="181"/>
                    <a:pt x="1344" y="183"/>
                  </a:cubicBezTo>
                  <a:cubicBezTo>
                    <a:pt x="1330" y="197"/>
                    <a:pt x="1240" y="237"/>
                    <a:pt x="1252" y="245"/>
                  </a:cubicBezTo>
                  <a:cubicBezTo>
                    <a:pt x="1264" y="253"/>
                    <a:pt x="1361" y="246"/>
                    <a:pt x="1413" y="234"/>
                  </a:cubicBezTo>
                  <a:cubicBezTo>
                    <a:pt x="1466" y="216"/>
                    <a:pt x="1519" y="203"/>
                    <a:pt x="1566" y="171"/>
                  </a:cubicBezTo>
                  <a:cubicBezTo>
                    <a:pt x="1589" y="156"/>
                    <a:pt x="1631" y="145"/>
                    <a:pt x="1656" y="133"/>
                  </a:cubicBezTo>
                  <a:cubicBezTo>
                    <a:pt x="1755" y="83"/>
                    <a:pt x="1826" y="27"/>
                    <a:pt x="1935" y="0"/>
                  </a:cubicBezTo>
                  <a:cubicBezTo>
                    <a:pt x="1950" y="3"/>
                    <a:pt x="1967" y="1"/>
                    <a:pt x="1980" y="9"/>
                  </a:cubicBezTo>
                  <a:cubicBezTo>
                    <a:pt x="2018" y="34"/>
                    <a:pt x="1952" y="114"/>
                    <a:pt x="1944" y="126"/>
                  </a:cubicBezTo>
                  <a:cubicBezTo>
                    <a:pt x="1932" y="144"/>
                    <a:pt x="1908" y="150"/>
                    <a:pt x="1890" y="162"/>
                  </a:cubicBezTo>
                  <a:cubicBezTo>
                    <a:pt x="1813" y="213"/>
                    <a:pt x="1729" y="247"/>
                    <a:pt x="1647" y="288"/>
                  </a:cubicBezTo>
                  <a:cubicBezTo>
                    <a:pt x="1603" y="311"/>
                    <a:pt x="1638" y="297"/>
                    <a:pt x="1624" y="303"/>
                  </a:cubicBezTo>
                  <a:cubicBezTo>
                    <a:pt x="1610" y="309"/>
                    <a:pt x="1584" y="318"/>
                    <a:pt x="1566" y="324"/>
                  </a:cubicBezTo>
                  <a:cubicBezTo>
                    <a:pt x="1548" y="330"/>
                    <a:pt x="1512" y="342"/>
                    <a:pt x="1512" y="342"/>
                  </a:cubicBezTo>
                  <a:cubicBezTo>
                    <a:pt x="1600" y="337"/>
                    <a:pt x="1624" y="295"/>
                    <a:pt x="1684" y="275"/>
                  </a:cubicBezTo>
                  <a:cubicBezTo>
                    <a:pt x="1711" y="278"/>
                    <a:pt x="1741" y="282"/>
                    <a:pt x="1764" y="297"/>
                  </a:cubicBezTo>
                  <a:cubicBezTo>
                    <a:pt x="1780" y="307"/>
                    <a:pt x="1782" y="351"/>
                    <a:pt x="1782" y="351"/>
                  </a:cubicBezTo>
                  <a:cubicBezTo>
                    <a:pt x="1779" y="363"/>
                    <a:pt x="1780" y="377"/>
                    <a:pt x="1773" y="387"/>
                  </a:cubicBezTo>
                  <a:cubicBezTo>
                    <a:pt x="1759" y="408"/>
                    <a:pt x="1738" y="403"/>
                    <a:pt x="1719" y="414"/>
                  </a:cubicBezTo>
                  <a:cubicBezTo>
                    <a:pt x="1719" y="414"/>
                    <a:pt x="1652" y="459"/>
                    <a:pt x="1638" y="468"/>
                  </a:cubicBezTo>
                  <a:cubicBezTo>
                    <a:pt x="1629" y="474"/>
                    <a:pt x="1620" y="480"/>
                    <a:pt x="1611" y="486"/>
                  </a:cubicBezTo>
                  <a:cubicBezTo>
                    <a:pt x="1595" y="497"/>
                    <a:pt x="1538" y="508"/>
                    <a:pt x="1557" y="504"/>
                  </a:cubicBezTo>
                  <a:cubicBezTo>
                    <a:pt x="1611" y="493"/>
                    <a:pt x="1587" y="500"/>
                    <a:pt x="1629" y="486"/>
                  </a:cubicBezTo>
                  <a:cubicBezTo>
                    <a:pt x="1647" y="458"/>
                    <a:pt x="1670" y="446"/>
                    <a:pt x="1701" y="432"/>
                  </a:cubicBezTo>
                  <a:cubicBezTo>
                    <a:pt x="1718" y="424"/>
                    <a:pt x="1755" y="414"/>
                    <a:pt x="1755" y="414"/>
                  </a:cubicBezTo>
                  <a:cubicBezTo>
                    <a:pt x="1776" y="417"/>
                    <a:pt x="1801" y="410"/>
                    <a:pt x="1818" y="423"/>
                  </a:cubicBezTo>
                  <a:cubicBezTo>
                    <a:pt x="1833" y="435"/>
                    <a:pt x="1836" y="477"/>
                    <a:pt x="1836" y="477"/>
                  </a:cubicBezTo>
                  <a:cubicBezTo>
                    <a:pt x="1831" y="501"/>
                    <a:pt x="1831" y="531"/>
                    <a:pt x="1809" y="549"/>
                  </a:cubicBezTo>
                  <a:cubicBezTo>
                    <a:pt x="1802" y="555"/>
                    <a:pt x="1790" y="553"/>
                    <a:pt x="1782" y="558"/>
                  </a:cubicBezTo>
                  <a:cubicBezTo>
                    <a:pt x="1754" y="574"/>
                    <a:pt x="1732" y="602"/>
                    <a:pt x="1701" y="612"/>
                  </a:cubicBezTo>
                  <a:cubicBezTo>
                    <a:pt x="1655" y="627"/>
                    <a:pt x="1613" y="650"/>
                    <a:pt x="1566" y="666"/>
                  </a:cubicBezTo>
                  <a:cubicBezTo>
                    <a:pt x="1554" y="670"/>
                    <a:pt x="1590" y="660"/>
                    <a:pt x="1602" y="657"/>
                  </a:cubicBezTo>
                  <a:cubicBezTo>
                    <a:pt x="1611" y="654"/>
                    <a:pt x="1621" y="652"/>
                    <a:pt x="1629" y="648"/>
                  </a:cubicBezTo>
                  <a:cubicBezTo>
                    <a:pt x="1667" y="629"/>
                    <a:pt x="1701" y="609"/>
                    <a:pt x="1737" y="585"/>
                  </a:cubicBezTo>
                  <a:cubicBezTo>
                    <a:pt x="1753" y="574"/>
                    <a:pt x="1791" y="567"/>
                    <a:pt x="1791" y="567"/>
                  </a:cubicBezTo>
                  <a:cubicBezTo>
                    <a:pt x="1853" y="583"/>
                    <a:pt x="1860" y="613"/>
                    <a:pt x="1836" y="684"/>
                  </a:cubicBezTo>
                  <a:cubicBezTo>
                    <a:pt x="1827" y="712"/>
                    <a:pt x="1779" y="730"/>
                    <a:pt x="1755" y="738"/>
                  </a:cubicBezTo>
                  <a:cubicBezTo>
                    <a:pt x="1709" y="807"/>
                    <a:pt x="1557" y="833"/>
                    <a:pt x="1476" y="846"/>
                  </a:cubicBezTo>
                  <a:cubicBezTo>
                    <a:pt x="1391" y="838"/>
                    <a:pt x="1319" y="826"/>
                    <a:pt x="1233" y="819"/>
                  </a:cubicBezTo>
                  <a:cubicBezTo>
                    <a:pt x="1173" y="822"/>
                    <a:pt x="1113" y="821"/>
                    <a:pt x="1053" y="828"/>
                  </a:cubicBezTo>
                  <a:cubicBezTo>
                    <a:pt x="997" y="834"/>
                    <a:pt x="943" y="874"/>
                    <a:pt x="891" y="891"/>
                  </a:cubicBezTo>
                  <a:cubicBezTo>
                    <a:pt x="757" y="936"/>
                    <a:pt x="620" y="972"/>
                    <a:pt x="486" y="1017"/>
                  </a:cubicBezTo>
                  <a:cubicBezTo>
                    <a:pt x="461" y="1025"/>
                    <a:pt x="438" y="1041"/>
                    <a:pt x="414" y="1053"/>
                  </a:cubicBezTo>
                  <a:cubicBezTo>
                    <a:pt x="414" y="1053"/>
                    <a:pt x="347" y="1075"/>
                    <a:pt x="333" y="1080"/>
                  </a:cubicBezTo>
                  <a:cubicBezTo>
                    <a:pt x="312" y="1087"/>
                    <a:pt x="300" y="1109"/>
                    <a:pt x="279" y="1116"/>
                  </a:cubicBezTo>
                  <a:cubicBezTo>
                    <a:pt x="257" y="1123"/>
                    <a:pt x="87" y="1224"/>
                    <a:pt x="63" y="1224"/>
                  </a:cubicBezTo>
                </a:path>
              </a:pathLst>
            </a:custGeom>
            <a:solidFill>
              <a:srgbClr val="d8b89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514440" y="5972040"/>
              <a:ext cx="2133720" cy="1704960"/>
            </a:xfrm>
            <a:custGeom>
              <a:avLst/>
              <a:gdLst/>
              <a:ahLst/>
              <a:rect l="l" t="t" r="r" b="b"/>
              <a:pathLst>
                <a:path w="1344" h="1074">
                  <a:moveTo>
                    <a:pt x="0" y="624"/>
                  </a:moveTo>
                  <a:cubicBezTo>
                    <a:pt x="66" y="619"/>
                    <a:pt x="474" y="336"/>
                    <a:pt x="528" y="312"/>
                  </a:cubicBezTo>
                  <a:cubicBezTo>
                    <a:pt x="596" y="251"/>
                    <a:pt x="707" y="210"/>
                    <a:pt x="798" y="162"/>
                  </a:cubicBezTo>
                  <a:cubicBezTo>
                    <a:pt x="900" y="84"/>
                    <a:pt x="984" y="51"/>
                    <a:pt x="1085" y="14"/>
                  </a:cubicBezTo>
                  <a:cubicBezTo>
                    <a:pt x="1124" y="0"/>
                    <a:pt x="1135" y="39"/>
                    <a:pt x="1155" y="63"/>
                  </a:cubicBezTo>
                  <a:cubicBezTo>
                    <a:pt x="1201" y="118"/>
                    <a:pt x="1235" y="174"/>
                    <a:pt x="1270" y="239"/>
                  </a:cubicBezTo>
                  <a:cubicBezTo>
                    <a:pt x="1293" y="300"/>
                    <a:pt x="1318" y="361"/>
                    <a:pt x="1340" y="424"/>
                  </a:cubicBezTo>
                  <a:cubicBezTo>
                    <a:pt x="1344" y="435"/>
                    <a:pt x="1343" y="475"/>
                    <a:pt x="1336" y="484"/>
                  </a:cubicBezTo>
                  <a:cubicBezTo>
                    <a:pt x="1314" y="513"/>
                    <a:pt x="1275" y="524"/>
                    <a:pt x="1244" y="543"/>
                  </a:cubicBezTo>
                  <a:cubicBezTo>
                    <a:pt x="1229" y="553"/>
                    <a:pt x="1214" y="564"/>
                    <a:pt x="1198" y="573"/>
                  </a:cubicBezTo>
                  <a:cubicBezTo>
                    <a:pt x="1158" y="594"/>
                    <a:pt x="1118" y="614"/>
                    <a:pt x="1078" y="635"/>
                  </a:cubicBezTo>
                  <a:cubicBezTo>
                    <a:pt x="947" y="724"/>
                    <a:pt x="1030" y="674"/>
                    <a:pt x="824" y="773"/>
                  </a:cubicBezTo>
                  <a:cubicBezTo>
                    <a:pt x="789" y="796"/>
                    <a:pt x="705" y="870"/>
                    <a:pt x="672" y="894"/>
                  </a:cubicBezTo>
                  <a:cubicBezTo>
                    <a:pt x="620" y="931"/>
                    <a:pt x="462" y="1044"/>
                    <a:pt x="450" y="1074"/>
                  </a:cubicBezTo>
                </a:path>
              </a:pathLst>
            </a:custGeom>
            <a:solidFill>
              <a:srgbClr val="569a28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323800">
              <a:off x="974880" y="6089760"/>
              <a:ext cx="123840" cy="933480"/>
            </a:xfrm>
            <a:custGeom>
              <a:avLst/>
              <a:gdLst/>
              <a:ahLst/>
              <a:rect l="l" t="t" r="r" b="b"/>
              <a:pathLst>
                <a:path w="60" h="570">
                  <a:moveTo>
                    <a:pt x="0" y="0"/>
                  </a:moveTo>
                  <a:cubicBezTo>
                    <a:pt x="24" y="71"/>
                    <a:pt x="48" y="143"/>
                    <a:pt x="60" y="216"/>
                  </a:cubicBezTo>
                  <a:cubicBezTo>
                    <a:pt x="56" y="303"/>
                    <a:pt x="50" y="377"/>
                    <a:pt x="36" y="462"/>
                  </a:cubicBezTo>
                  <a:cubicBezTo>
                    <a:pt x="30" y="498"/>
                    <a:pt x="12" y="534"/>
                    <a:pt x="12" y="57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9723200">
              <a:off x="1382760" y="6575040"/>
              <a:ext cx="28440" cy="162000"/>
            </a:xfrm>
            <a:custGeom>
              <a:avLst/>
              <a:gdLst/>
              <a:ahLst/>
              <a:rect l="l" t="t" r="r" b="b"/>
              <a:pathLst>
                <a:path w="18" h="102">
                  <a:moveTo>
                    <a:pt x="18" y="0"/>
                  </a:moveTo>
                  <a:cubicBezTo>
                    <a:pt x="5" y="39"/>
                    <a:pt x="0" y="60"/>
                    <a:pt x="0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323800">
              <a:off x="1330200" y="6619680"/>
              <a:ext cx="122400" cy="17604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10" y="47"/>
                  </a:moveTo>
                  <a:cubicBezTo>
                    <a:pt x="18" y="35"/>
                    <a:pt x="33" y="0"/>
                    <a:pt x="58" y="35"/>
                  </a:cubicBezTo>
                  <a:cubicBezTo>
                    <a:pt x="65" y="45"/>
                    <a:pt x="60" y="62"/>
                    <a:pt x="52" y="71"/>
                  </a:cubicBezTo>
                  <a:cubicBezTo>
                    <a:pt x="44" y="81"/>
                    <a:pt x="16" y="83"/>
                    <a:pt x="16" y="83"/>
                  </a:cubicBezTo>
                  <a:cubicBezTo>
                    <a:pt x="12" y="77"/>
                    <a:pt x="5" y="72"/>
                    <a:pt x="4" y="65"/>
                  </a:cubicBezTo>
                  <a:cubicBezTo>
                    <a:pt x="0" y="35"/>
                    <a:pt x="51" y="20"/>
                    <a:pt x="10" y="47"/>
                  </a:cubicBezTo>
                  <a:close/>
                </a:path>
              </a:pathLst>
            </a:custGeom>
            <a:solidFill>
              <a:srgbClr val="38641a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323800">
              <a:off x="851040" y="6810480"/>
              <a:ext cx="311040" cy="42840"/>
            </a:xfrm>
            <a:custGeom>
              <a:avLst/>
              <a:gdLst/>
              <a:ahLst/>
              <a:rect l="l" t="t" r="r" b="b"/>
              <a:pathLst>
                <a:path w="196" h="27">
                  <a:moveTo>
                    <a:pt x="0" y="1"/>
                  </a:moveTo>
                  <a:cubicBezTo>
                    <a:pt x="48" y="2"/>
                    <a:pt x="96" y="0"/>
                    <a:pt x="144" y="5"/>
                  </a:cubicBezTo>
                  <a:cubicBezTo>
                    <a:pt x="149" y="6"/>
                    <a:pt x="148" y="14"/>
                    <a:pt x="152" y="17"/>
                  </a:cubicBezTo>
                  <a:cubicBezTo>
                    <a:pt x="168" y="27"/>
                    <a:pt x="179" y="25"/>
                    <a:pt x="196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323800">
              <a:off x="1039680" y="6824520"/>
              <a:ext cx="108000" cy="1296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cubicBezTo>
                    <a:pt x="26" y="4"/>
                    <a:pt x="40" y="0"/>
                    <a:pt x="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323800">
              <a:off x="2146320" y="533988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2" y="0"/>
                  </a:moveTo>
                  <a:cubicBezTo>
                    <a:pt x="8" y="66"/>
                    <a:pt x="0" y="41"/>
                    <a:pt x="46" y="56"/>
                  </a:cubicBezTo>
                  <a:cubicBezTo>
                    <a:pt x="71" y="51"/>
                    <a:pt x="70" y="49"/>
                    <a:pt x="70" y="24"/>
                  </a:cubicBezTo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323800">
              <a:off x="2876040" y="5132520"/>
              <a:ext cx="12240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0"/>
                  </a:moveTo>
                  <a:cubicBezTo>
                    <a:pt x="47" y="0"/>
                    <a:pt x="66" y="5"/>
                    <a:pt x="76" y="34"/>
                  </a:cubicBezTo>
                  <a:cubicBezTo>
                    <a:pt x="75" y="42"/>
                    <a:pt x="77" y="52"/>
                    <a:pt x="72" y="58"/>
                  </a:cubicBezTo>
                  <a:cubicBezTo>
                    <a:pt x="72" y="58"/>
                    <a:pt x="42" y="68"/>
                    <a:pt x="36" y="70"/>
                  </a:cubicBezTo>
                  <a:cubicBezTo>
                    <a:pt x="32" y="71"/>
                    <a:pt x="24" y="74"/>
                    <a:pt x="24" y="74"/>
                  </a:cubicBezTo>
                  <a:cubicBezTo>
                    <a:pt x="0" y="68"/>
                    <a:pt x="4" y="59"/>
                    <a:pt x="0" y="34"/>
                  </a:cubicBezTo>
                  <a:cubicBezTo>
                    <a:pt x="3" y="22"/>
                    <a:pt x="1" y="2"/>
                    <a:pt x="16" y="10"/>
                  </a:cubicBezTo>
                  <a:close/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793600">
            <a:off x="3930480" y="52848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0794200">
            <a:off x="4454640" y="45540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931600">
            <a:off x="5768640" y="151920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30000">
            <a:off x="6264000" y="15987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407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413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419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421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427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429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435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462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513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524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527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040" y="228600"/>
            <a:ext cx="5572440" cy="6629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581800" y="2228760"/>
            <a:ext cx="4214520" cy="4900320"/>
            <a:chOff x="5581800" y="2228760"/>
            <a:chExt cx="4214520" cy="4900320"/>
          </a:xfrm>
        </p:grpSpPr>
        <p:sp>
          <p:nvSpPr>
            <p:cNvPr id="534" name=""/>
            <p:cNvSpPr/>
            <p:nvPr/>
          </p:nvSpPr>
          <p:spPr>
            <a:xfrm>
              <a:off x="8777160" y="5633640"/>
              <a:ext cx="228600" cy="25740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2" y="0"/>
                  </a:moveTo>
                  <a:cubicBezTo>
                    <a:pt x="55" y="9"/>
                    <a:pt x="95" y="19"/>
                    <a:pt x="138" y="24"/>
                  </a:cubicBezTo>
                  <a:cubicBezTo>
                    <a:pt x="143" y="39"/>
                    <a:pt x="144" y="137"/>
                    <a:pt x="126" y="150"/>
                  </a:cubicBezTo>
                  <a:cubicBezTo>
                    <a:pt x="116" y="157"/>
                    <a:pt x="90" y="162"/>
                    <a:pt x="90" y="162"/>
                  </a:cubicBezTo>
                  <a:cubicBezTo>
                    <a:pt x="56" y="156"/>
                    <a:pt x="28" y="151"/>
                    <a:pt x="0" y="132"/>
                  </a:cubicBezTo>
                  <a:cubicBezTo>
                    <a:pt x="4" y="87"/>
                    <a:pt x="2" y="77"/>
                    <a:pt x="12" y="42"/>
                  </a:cubicBezTo>
                  <a:cubicBezTo>
                    <a:pt x="16" y="30"/>
                    <a:pt x="35" y="12"/>
                    <a:pt x="24" y="6"/>
                  </a:cubicBezTo>
                  <a:cubicBezTo>
                    <a:pt x="20" y="4"/>
                    <a:pt x="16" y="2"/>
                    <a:pt x="12" y="0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77320" y="5709960"/>
              <a:ext cx="190440" cy="1800"/>
            </a:xfrm>
            <a:custGeom>
              <a:avLst/>
              <a:gdLst/>
              <a:ahLst/>
              <a:rect l="l" t="t" r="r" b="b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1800" y="2228760"/>
              <a:ext cx="4157640" cy="4871880"/>
            </a:xfrm>
            <a:prstGeom prst="irregularSeal1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53120" y="3414600"/>
              <a:ext cx="3514680" cy="3485880"/>
            </a:xfrm>
            <a:prstGeom prst="irregularSeal2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96080" y="5286240"/>
              <a:ext cx="2100240" cy="1842840"/>
            </a:xfrm>
            <a:prstGeom prst="irregularSeal2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1360" y="350964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6000" y="3700080"/>
              <a:ext cx="1986120" cy="1757520"/>
            </a:xfrm>
            <a:prstGeom prst="irregularSeal2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0440" y="3795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0320" y="4323960"/>
              <a:ext cx="2124000" cy="115740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48560" y="420516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63120" y="4323960"/>
              <a:ext cx="342720" cy="16848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20080" y="5929200"/>
              <a:ext cx="627120" cy="28080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05720" y="642924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2520" y="380016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0" y="5086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8760" y="559584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3209600">
              <a:off x="6490800" y="5375880"/>
              <a:ext cx="107820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937640" y="3719160"/>
              <a:ext cx="353880" cy="204840"/>
              <a:chOff x="7937640" y="3719160"/>
              <a:chExt cx="353880" cy="20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7937640" y="3719160"/>
                <a:ext cx="353880" cy="204840"/>
              </a:xfrm>
              <a:custGeom>
                <a:avLst/>
                <a:gdLst/>
                <a:ahLst/>
                <a:rect l="l" t="t" r="r" b="b"/>
                <a:pathLst>
                  <a:path w="223" h="129">
                    <a:moveTo>
                      <a:pt x="34" y="66"/>
                    </a:moveTo>
                    <a:cubicBezTo>
                      <a:pt x="74" y="53"/>
                      <a:pt x="102" y="25"/>
                      <a:pt x="142" y="12"/>
                    </a:cubicBezTo>
                    <a:cubicBezTo>
                      <a:pt x="181" y="17"/>
                      <a:pt x="223" y="0"/>
                      <a:pt x="223" y="48"/>
                    </a:cubicBezTo>
                    <a:cubicBezTo>
                      <a:pt x="223" y="94"/>
                      <a:pt x="193" y="71"/>
                      <a:pt x="160" y="93"/>
                    </a:cubicBezTo>
                    <a:cubicBezTo>
                      <a:pt x="142" y="105"/>
                      <a:pt x="106" y="129"/>
                      <a:pt x="106" y="129"/>
                    </a:cubicBezTo>
                    <a:cubicBezTo>
                      <a:pt x="85" y="126"/>
                      <a:pt x="62" y="129"/>
                      <a:pt x="43" y="120"/>
                    </a:cubicBezTo>
                    <a:cubicBezTo>
                      <a:pt x="0" y="98"/>
                      <a:pt x="61" y="80"/>
                      <a:pt x="61" y="75"/>
                    </a:cubicBezTo>
                    <a:cubicBezTo>
                      <a:pt x="61" y="66"/>
                      <a:pt x="43" y="69"/>
                      <a:pt x="3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67600" y="373176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3" y="34"/>
                    </a:moveTo>
                    <a:cubicBezTo>
                      <a:pt x="6" y="52"/>
                      <a:pt x="0" y="77"/>
                      <a:pt x="15" y="88"/>
                    </a:cubicBezTo>
                    <a:cubicBezTo>
                      <a:pt x="25" y="95"/>
                      <a:pt x="51" y="100"/>
                      <a:pt x="51" y="100"/>
                    </a:cubicBezTo>
                    <a:cubicBezTo>
                      <a:pt x="75" y="92"/>
                      <a:pt x="79" y="82"/>
                      <a:pt x="87" y="58"/>
                    </a:cubicBezTo>
                    <a:cubicBezTo>
                      <a:pt x="75" y="0"/>
                      <a:pt x="61" y="17"/>
                      <a:pt x="3" y="34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00720" y="37954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853320" y="4286160"/>
              <a:ext cx="2228760" cy="2157120"/>
            </a:xfrm>
            <a:prstGeom prst="irregularSeal1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8580600" y="5178240"/>
              <a:ext cx="366480" cy="189000"/>
              <a:chOff x="8580600" y="5178240"/>
              <a:chExt cx="366480" cy="189000"/>
            </a:xfrm>
          </p:grpSpPr>
          <p:sp>
            <p:nvSpPr>
              <p:cNvPr id="557" name=""/>
              <p:cNvSpPr/>
              <p:nvPr/>
            </p:nvSpPr>
            <p:spPr>
              <a:xfrm>
                <a:off x="8580600" y="5178240"/>
                <a:ext cx="366480" cy="189000"/>
              </a:xfrm>
              <a:custGeom>
                <a:avLst/>
                <a:gdLst/>
                <a:ahLst/>
                <a:rect l="l" t="t" r="r" b="b"/>
                <a:pathLst>
                  <a:path w="231" h="119">
                    <a:moveTo>
                      <a:pt x="214" y="38"/>
                    </a:moveTo>
                    <a:cubicBezTo>
                      <a:pt x="196" y="32"/>
                      <a:pt x="178" y="26"/>
                      <a:pt x="160" y="20"/>
                    </a:cubicBezTo>
                    <a:cubicBezTo>
                      <a:pt x="151" y="17"/>
                      <a:pt x="133" y="11"/>
                      <a:pt x="133" y="11"/>
                    </a:cubicBezTo>
                    <a:cubicBezTo>
                      <a:pt x="106" y="14"/>
                      <a:pt x="70" y="0"/>
                      <a:pt x="52" y="20"/>
                    </a:cubicBezTo>
                    <a:cubicBezTo>
                      <a:pt x="0" y="79"/>
                      <a:pt x="90" y="102"/>
                      <a:pt x="115" y="119"/>
                    </a:cubicBezTo>
                    <a:cubicBezTo>
                      <a:pt x="125" y="117"/>
                      <a:pt x="231" y="107"/>
                      <a:pt x="223" y="74"/>
                    </a:cubicBezTo>
                    <a:cubicBezTo>
                      <a:pt x="220" y="62"/>
                      <a:pt x="217" y="50"/>
                      <a:pt x="21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2000" y="5200560"/>
                <a:ext cx="158400" cy="16200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26" y="0"/>
                    </a:moveTo>
                    <a:cubicBezTo>
                      <a:pt x="15" y="16"/>
                      <a:pt x="2" y="54"/>
                      <a:pt x="2" y="54"/>
                    </a:cubicBezTo>
                    <a:cubicBezTo>
                      <a:pt x="4" y="66"/>
                      <a:pt x="0" y="81"/>
                      <a:pt x="8" y="90"/>
                    </a:cubicBezTo>
                    <a:cubicBezTo>
                      <a:pt x="16" y="100"/>
                      <a:pt x="44" y="102"/>
                      <a:pt x="44" y="102"/>
                    </a:cubicBezTo>
                    <a:cubicBezTo>
                      <a:pt x="81" y="93"/>
                      <a:pt x="87" y="74"/>
                      <a:pt x="98" y="42"/>
                    </a:cubicBezTo>
                    <a:cubicBezTo>
                      <a:pt x="91" y="12"/>
                      <a:pt x="100" y="18"/>
                      <a:pt x="74" y="18"/>
                    </a:cubicBezTo>
                  </a:path>
                </a:pathLst>
              </a:custGeom>
              <a:solidFill>
                <a:srgbClr val="0099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53400" y="52387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477200" y="513864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rot="670800">
            <a:off x="3882600" y="396252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130000">
            <a:off x="4377960" y="40417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52800">
            <a:off x="4273560" y="385740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130000">
            <a:off x="4768560" y="39369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670800">
            <a:off x="3792240" y="378612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2130000">
            <a:off x="4287600" y="386568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552800">
            <a:off x="4183200" y="368136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30000">
            <a:off x="4677840" y="3760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436840" y="4371840"/>
            <a:ext cx="427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אנחנו נקשיב לך תמיד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עד שיגמרו לך המילי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6860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2112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1:02:00Z</dcterms:created>
  <dc:creator>7111kabaria</dc:creator>
  <dc:description/>
  <dc:language>en-US</dc:language>
  <cp:lastModifiedBy>amisu</cp:lastModifiedBy>
  <dcterms:modified xsi:type="dcterms:W3CDTF">2001-02-18T07:10:02Z</dcterms:modified>
  <cp:revision>36</cp:revision>
  <dc:subject/>
  <dc:title>מצגת של PowerPoint</dc:title>
</cp:coreProperties>
</file>